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9F635-EFC6-4AE1-AFF3-E539D831E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1E7F6-2DE4-41FB-B73D-8F587778A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A8E2B-79A1-4927-996B-BF0167C3A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C4D46-A7A3-4E49-BDE2-0816F0036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1BAF4-A6E1-45EE-9EFA-5A3EC57D4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E47E4-3E17-43B4-910E-D5F7B0886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AE7F7-6370-4E0E-8F1F-9023C0ECE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9E17A-6E0D-4AFB-8188-4EF324EDD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21374-FEB4-4F0D-92D0-31C36674B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9D80B-C127-43A1-A9A2-9DBEEF370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E9A73-556B-402F-BEDE-D16160D57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E9A3F-1CC6-430C-AFCE-7EE9D11F5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75f6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760A1-380D-4BA7-BD33-BB0124F97D7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Oval 12"/>
          <p:cNvSpPr/>
          <p:nvPr/>
        </p:nvSpPr>
        <p:spPr>
          <a:xfrm>
            <a:off x="2340000" y="2276640"/>
            <a:ext cx="1871640" cy="28080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val 13"/>
          <p:cNvSpPr/>
          <p:nvPr/>
        </p:nvSpPr>
        <p:spPr>
          <a:xfrm>
            <a:off x="2843280" y="2781360"/>
            <a:ext cx="863640" cy="158436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rc 14"/>
          <p:cNvSpPr/>
          <p:nvPr/>
        </p:nvSpPr>
        <p:spPr>
          <a:xfrm flipH="1" flipV="1">
            <a:off x="2410560" y="1439280"/>
            <a:ext cx="576360" cy="982440"/>
          </a:xfrm>
          <a:custGeom>
            <a:avLst/>
            <a:gdLst>
              <a:gd name="textAreaLeft" fmla="*/ -360 w 576360"/>
              <a:gd name="textAreaRight" fmla="*/ 576360 w 576360"/>
              <a:gd name="textAreaTop" fmla="*/ -360 h 982440"/>
              <a:gd name="textAreaBottom" fmla="*/ 982440 h 982440"/>
            </a:gdLst>
            <a:ahLst/>
            <a:rect l="textAreaLeft" t="textAreaTop" r="textAreaRight" b="textAreaBottom"/>
            <a:pathLst>
              <a:path fill="none" w="21600" h="27791">
                <a:moveTo>
                  <a:pt x="7230" y="-1"/>
                </a:moveTo>
                <a:cubicBezTo>
                  <a:pt x="15844" y="3060"/>
                  <a:pt x="21600" y="11211"/>
                  <a:pt x="21600" y="20354"/>
                </a:cubicBezTo>
                <a:cubicBezTo>
                  <a:pt x="21600" y="22891"/>
                  <a:pt x="21152" y="25408"/>
                  <a:pt x="20279" y="27791"/>
                </a:cubicBezTo>
              </a:path>
              <a:path stroke="0" w="21600" h="27791">
                <a:moveTo>
                  <a:pt x="7230" y="-1"/>
                </a:moveTo>
                <a:cubicBezTo>
                  <a:pt x="15844" y="3060"/>
                  <a:pt x="21600" y="11211"/>
                  <a:pt x="21600" y="20354"/>
                </a:cubicBezTo>
                <a:cubicBezTo>
                  <a:pt x="21600" y="22891"/>
                  <a:pt x="21152" y="25408"/>
                  <a:pt x="20279" y="27791"/>
                </a:cubicBezTo>
                <a:lnTo>
                  <a:pt x="0" y="20354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rc 15"/>
          <p:cNvSpPr/>
          <p:nvPr/>
        </p:nvSpPr>
        <p:spPr>
          <a:xfrm flipH="1" flipV="1">
            <a:off x="1908000" y="1772640"/>
            <a:ext cx="741600" cy="787320"/>
          </a:xfrm>
          <a:custGeom>
            <a:avLst/>
            <a:gdLst>
              <a:gd name="textAreaLeft" fmla="*/ 360 w 741600"/>
              <a:gd name="textAreaRight" fmla="*/ 742320 w 741600"/>
              <a:gd name="textAreaTop" fmla="*/ -360 h 787320"/>
              <a:gd name="textAreaBottom" fmla="*/ 787320 h 787320"/>
            </a:gdLst>
            <a:ahLst/>
            <a:rect l="textAreaLeft" t="textAreaTop" r="textAreaRight" b="textAreaBottom"/>
            <a:pathLst>
              <a:path fill="none" w="21600" h="32425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5401"/>
                  <a:pt x="20596" y="29135"/>
                  <a:pt x="18691" y="32424"/>
                </a:cubicBezTo>
              </a:path>
              <a:path stroke="0" w="21600" h="32425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5401"/>
                  <a:pt x="20596" y="29135"/>
                  <a:pt x="18691" y="32424"/>
                </a:cubicBezTo>
                <a:lnTo>
                  <a:pt x="0" y="2160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rc 16"/>
          <p:cNvSpPr/>
          <p:nvPr/>
        </p:nvSpPr>
        <p:spPr>
          <a:xfrm flipH="1" flipV="1">
            <a:off x="1476360" y="2348640"/>
            <a:ext cx="960480" cy="569880"/>
          </a:xfrm>
          <a:custGeom>
            <a:avLst/>
            <a:gdLst>
              <a:gd name="textAreaLeft" fmla="*/ 360 w 960480"/>
              <a:gd name="textAreaRight" fmla="*/ 961200 w 960480"/>
              <a:gd name="textAreaTop" fmla="*/ -360 h 569880"/>
              <a:gd name="textAreaBottom" fmla="*/ 569880 h 569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Oval 17"/>
          <p:cNvSpPr/>
          <p:nvPr/>
        </p:nvSpPr>
        <p:spPr>
          <a:xfrm>
            <a:off x="3203640" y="3284640"/>
            <a:ext cx="216000" cy="57600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rc 20"/>
          <p:cNvSpPr/>
          <p:nvPr/>
        </p:nvSpPr>
        <p:spPr>
          <a:xfrm flipV="1">
            <a:off x="6443640" y="1341360"/>
            <a:ext cx="528840" cy="1008000"/>
          </a:xfrm>
          <a:custGeom>
            <a:avLst/>
            <a:gdLst>
              <a:gd name="textAreaLeft" fmla="*/ 0 w 528840"/>
              <a:gd name="textAreaRight" fmla="*/ 528840 w 528840"/>
              <a:gd name="textAreaTop" fmla="*/ 360 h 1008000"/>
              <a:gd name="textAreaBottom" fmla="*/ 1008720 h 100800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rc 21"/>
          <p:cNvSpPr/>
          <p:nvPr/>
        </p:nvSpPr>
        <p:spPr>
          <a:xfrm flipV="1">
            <a:off x="6588000" y="1557360"/>
            <a:ext cx="793800" cy="1008000"/>
          </a:xfrm>
          <a:custGeom>
            <a:avLst/>
            <a:gdLst>
              <a:gd name="textAreaLeft" fmla="*/ 0 w 793800"/>
              <a:gd name="textAreaRight" fmla="*/ 794160 w 793800"/>
              <a:gd name="textAreaTop" fmla="*/ 360 h 1008000"/>
              <a:gd name="textAreaBottom" fmla="*/ 1008720 h 1008000"/>
            </a:gdLst>
            <a:ahLst/>
            <a:rect l="textAreaLeft" t="textAreaTop" r="textAreaRight" b="textAreaBottom"/>
            <a:pathLst>
              <a:path fill="none" w="30446" h="21600">
                <a:moveTo>
                  <a:pt x="0" y="1951"/>
                </a:moveTo>
                <a:cubicBezTo>
                  <a:pt x="2815" y="665"/>
                  <a:pt x="5875" y="-1"/>
                  <a:pt x="8971" y="0"/>
                </a:cubicBezTo>
                <a:cubicBezTo>
                  <a:pt x="20001" y="0"/>
                  <a:pt x="29260" y="8311"/>
                  <a:pt x="30445" y="19279"/>
                </a:cubicBezTo>
              </a:path>
              <a:path stroke="0" w="30446" h="21600">
                <a:moveTo>
                  <a:pt x="0" y="1951"/>
                </a:moveTo>
                <a:cubicBezTo>
                  <a:pt x="2815" y="665"/>
                  <a:pt x="5875" y="-1"/>
                  <a:pt x="8971" y="0"/>
                </a:cubicBezTo>
                <a:cubicBezTo>
                  <a:pt x="20001" y="0"/>
                  <a:pt x="29260" y="8311"/>
                  <a:pt x="30445" y="19279"/>
                </a:cubicBezTo>
                <a:lnTo>
                  <a:pt x="8971" y="2160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rc 22"/>
          <p:cNvSpPr/>
          <p:nvPr/>
        </p:nvSpPr>
        <p:spPr>
          <a:xfrm flipV="1">
            <a:off x="6877080" y="1844640"/>
            <a:ext cx="1008000" cy="936720"/>
          </a:xfrm>
          <a:custGeom>
            <a:avLst/>
            <a:gdLst>
              <a:gd name="textAreaLeft" fmla="*/ 0 w 1008000"/>
              <a:gd name="textAreaRight" fmla="*/ 1008360 w 1008000"/>
              <a:gd name="textAreaTop" fmla="*/ 360 h 936720"/>
              <a:gd name="textAreaBottom" fmla="*/ 937440 h 936720"/>
            </a:gdLst>
            <a:ahLst/>
            <a:rect l="textAreaLeft" t="textAreaTop" r="textAreaRight" b="textAreaBottom"/>
            <a:pathLst>
              <a:path fill="none" w="21364" h="21600">
                <a:moveTo>
                  <a:pt x="-1" y="0"/>
                </a:moveTo>
                <a:cubicBezTo>
                  <a:pt x="10698" y="0"/>
                  <a:pt x="19785" y="7831"/>
                  <a:pt x="21363" y="18413"/>
                </a:cubicBezTo>
              </a:path>
              <a:path stroke="0" w="21364" h="21600">
                <a:moveTo>
                  <a:pt x="-1" y="0"/>
                </a:moveTo>
                <a:cubicBezTo>
                  <a:pt x="10698" y="0"/>
                  <a:pt x="19785" y="7831"/>
                  <a:pt x="21363" y="18413"/>
                </a:cubicBezTo>
                <a:lnTo>
                  <a:pt x="0" y="2160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Oval 27"/>
          <p:cNvSpPr/>
          <p:nvPr/>
        </p:nvSpPr>
        <p:spPr>
          <a:xfrm>
            <a:off x="5219640" y="2276640"/>
            <a:ext cx="1871640" cy="28080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Oval 28"/>
          <p:cNvSpPr/>
          <p:nvPr/>
        </p:nvSpPr>
        <p:spPr>
          <a:xfrm>
            <a:off x="5722920" y="2781360"/>
            <a:ext cx="863640" cy="158436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Oval 29"/>
          <p:cNvSpPr/>
          <p:nvPr/>
        </p:nvSpPr>
        <p:spPr>
          <a:xfrm>
            <a:off x="6083280" y="3284640"/>
            <a:ext cx="216000" cy="57600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akusticheskaya-ballada-440.mp3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2.42775E-006 L -0.05503 -2.42775E-006 E">
                                      <p:cBhvr>
                                        <p:cTn id="6" dur="2000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82 0.00023 L -0.05902 0.00023 E">
                                      <p:cBhvr>
                                        <p:cTn id="8" dur="20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2.42775E-006 L -0.05503 -2.42775E-006 E">
                                      <p:cBhvr>
                                        <p:cTn id="10" dur="200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2.42775E-006 L -0.0552 -2.42775E-006 E">
                                      <p:cBhvr>
                                        <p:cTn id="12" dur="200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" dur="1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Oval 4"/>
          <p:cNvSpPr/>
          <p:nvPr/>
        </p:nvSpPr>
        <p:spPr>
          <a:xfrm>
            <a:off x="2340000" y="2276640"/>
            <a:ext cx="1871640" cy="28080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val 5"/>
          <p:cNvSpPr/>
          <p:nvPr/>
        </p:nvSpPr>
        <p:spPr>
          <a:xfrm>
            <a:off x="3348000" y="2781360"/>
            <a:ext cx="863640" cy="158436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rc 6"/>
          <p:cNvSpPr/>
          <p:nvPr/>
        </p:nvSpPr>
        <p:spPr>
          <a:xfrm flipH="1" flipV="1">
            <a:off x="2410560" y="1439280"/>
            <a:ext cx="576360" cy="982440"/>
          </a:xfrm>
          <a:custGeom>
            <a:avLst/>
            <a:gdLst>
              <a:gd name="textAreaLeft" fmla="*/ -360 w 576360"/>
              <a:gd name="textAreaRight" fmla="*/ 576360 w 576360"/>
              <a:gd name="textAreaTop" fmla="*/ -360 h 982440"/>
              <a:gd name="textAreaBottom" fmla="*/ 982440 h 982440"/>
            </a:gdLst>
            <a:ahLst/>
            <a:rect l="textAreaLeft" t="textAreaTop" r="textAreaRight" b="textAreaBottom"/>
            <a:pathLst>
              <a:path fill="none" w="21600" h="27791">
                <a:moveTo>
                  <a:pt x="7230" y="-1"/>
                </a:moveTo>
                <a:cubicBezTo>
                  <a:pt x="15844" y="3060"/>
                  <a:pt x="21600" y="11211"/>
                  <a:pt x="21600" y="20354"/>
                </a:cubicBezTo>
                <a:cubicBezTo>
                  <a:pt x="21600" y="22891"/>
                  <a:pt x="21152" y="25408"/>
                  <a:pt x="20279" y="27791"/>
                </a:cubicBezTo>
              </a:path>
              <a:path stroke="0" w="21600" h="27791">
                <a:moveTo>
                  <a:pt x="7230" y="-1"/>
                </a:moveTo>
                <a:cubicBezTo>
                  <a:pt x="15844" y="3060"/>
                  <a:pt x="21600" y="11211"/>
                  <a:pt x="21600" y="20354"/>
                </a:cubicBezTo>
                <a:cubicBezTo>
                  <a:pt x="21600" y="22891"/>
                  <a:pt x="21152" y="25408"/>
                  <a:pt x="20279" y="27791"/>
                </a:cubicBezTo>
                <a:lnTo>
                  <a:pt x="0" y="20354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rc 7"/>
          <p:cNvSpPr/>
          <p:nvPr/>
        </p:nvSpPr>
        <p:spPr>
          <a:xfrm flipH="1" flipV="1">
            <a:off x="1908000" y="1772640"/>
            <a:ext cx="741600" cy="787320"/>
          </a:xfrm>
          <a:custGeom>
            <a:avLst/>
            <a:gdLst>
              <a:gd name="textAreaLeft" fmla="*/ 360 w 741600"/>
              <a:gd name="textAreaRight" fmla="*/ 742320 w 741600"/>
              <a:gd name="textAreaTop" fmla="*/ -360 h 787320"/>
              <a:gd name="textAreaBottom" fmla="*/ 787320 h 787320"/>
            </a:gdLst>
            <a:ahLst/>
            <a:rect l="textAreaLeft" t="textAreaTop" r="textAreaRight" b="textAreaBottom"/>
            <a:pathLst>
              <a:path fill="none" w="21600" h="32425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5401"/>
                  <a:pt x="20596" y="29135"/>
                  <a:pt x="18691" y="32424"/>
                </a:cubicBezTo>
              </a:path>
              <a:path stroke="0" w="21600" h="32425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5401"/>
                  <a:pt x="20596" y="29135"/>
                  <a:pt x="18691" y="32424"/>
                </a:cubicBezTo>
                <a:lnTo>
                  <a:pt x="0" y="2160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rc 8"/>
          <p:cNvSpPr/>
          <p:nvPr/>
        </p:nvSpPr>
        <p:spPr>
          <a:xfrm flipH="1" flipV="1">
            <a:off x="1476360" y="2348640"/>
            <a:ext cx="960480" cy="569880"/>
          </a:xfrm>
          <a:custGeom>
            <a:avLst/>
            <a:gdLst>
              <a:gd name="textAreaLeft" fmla="*/ 360 w 960480"/>
              <a:gd name="textAreaRight" fmla="*/ 961200 w 960480"/>
              <a:gd name="textAreaTop" fmla="*/ -360 h 569880"/>
              <a:gd name="textAreaBottom" fmla="*/ 569880 h 569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Oval 9"/>
          <p:cNvSpPr/>
          <p:nvPr/>
        </p:nvSpPr>
        <p:spPr>
          <a:xfrm>
            <a:off x="3708360" y="3284640"/>
            <a:ext cx="216000" cy="57600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rc 10"/>
          <p:cNvSpPr/>
          <p:nvPr/>
        </p:nvSpPr>
        <p:spPr>
          <a:xfrm flipV="1">
            <a:off x="6443640" y="1341360"/>
            <a:ext cx="528840" cy="1008000"/>
          </a:xfrm>
          <a:custGeom>
            <a:avLst/>
            <a:gdLst>
              <a:gd name="textAreaLeft" fmla="*/ 0 w 528840"/>
              <a:gd name="textAreaRight" fmla="*/ 528840 w 528840"/>
              <a:gd name="textAreaTop" fmla="*/ 360 h 1008000"/>
              <a:gd name="textAreaBottom" fmla="*/ 1008720 h 100800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rc 11"/>
          <p:cNvSpPr/>
          <p:nvPr/>
        </p:nvSpPr>
        <p:spPr>
          <a:xfrm flipV="1">
            <a:off x="6588000" y="1557360"/>
            <a:ext cx="793800" cy="1008000"/>
          </a:xfrm>
          <a:custGeom>
            <a:avLst/>
            <a:gdLst>
              <a:gd name="textAreaLeft" fmla="*/ 0 w 793800"/>
              <a:gd name="textAreaRight" fmla="*/ 794160 w 793800"/>
              <a:gd name="textAreaTop" fmla="*/ 360 h 1008000"/>
              <a:gd name="textAreaBottom" fmla="*/ 1008720 h 1008000"/>
            </a:gdLst>
            <a:ahLst/>
            <a:rect l="textAreaLeft" t="textAreaTop" r="textAreaRight" b="textAreaBottom"/>
            <a:pathLst>
              <a:path fill="none" w="30446" h="21600">
                <a:moveTo>
                  <a:pt x="0" y="1951"/>
                </a:moveTo>
                <a:cubicBezTo>
                  <a:pt x="2815" y="665"/>
                  <a:pt x="5875" y="-1"/>
                  <a:pt x="8971" y="0"/>
                </a:cubicBezTo>
                <a:cubicBezTo>
                  <a:pt x="20001" y="0"/>
                  <a:pt x="29260" y="8311"/>
                  <a:pt x="30445" y="19279"/>
                </a:cubicBezTo>
              </a:path>
              <a:path stroke="0" w="30446" h="21600">
                <a:moveTo>
                  <a:pt x="0" y="1951"/>
                </a:moveTo>
                <a:cubicBezTo>
                  <a:pt x="2815" y="665"/>
                  <a:pt x="5875" y="-1"/>
                  <a:pt x="8971" y="0"/>
                </a:cubicBezTo>
                <a:cubicBezTo>
                  <a:pt x="20001" y="0"/>
                  <a:pt x="29260" y="8311"/>
                  <a:pt x="30445" y="19279"/>
                </a:cubicBezTo>
                <a:lnTo>
                  <a:pt x="8971" y="2160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rc 12"/>
          <p:cNvSpPr/>
          <p:nvPr/>
        </p:nvSpPr>
        <p:spPr>
          <a:xfrm flipV="1">
            <a:off x="6877080" y="1844640"/>
            <a:ext cx="1008000" cy="936720"/>
          </a:xfrm>
          <a:custGeom>
            <a:avLst/>
            <a:gdLst>
              <a:gd name="textAreaLeft" fmla="*/ 0 w 1008000"/>
              <a:gd name="textAreaRight" fmla="*/ 1008360 w 1008000"/>
              <a:gd name="textAreaTop" fmla="*/ 360 h 936720"/>
              <a:gd name="textAreaBottom" fmla="*/ 937440 h 936720"/>
            </a:gdLst>
            <a:ahLst/>
            <a:rect l="textAreaLeft" t="textAreaTop" r="textAreaRight" b="textAreaBottom"/>
            <a:pathLst>
              <a:path fill="none" w="21364" h="21600">
                <a:moveTo>
                  <a:pt x="-1" y="0"/>
                </a:moveTo>
                <a:cubicBezTo>
                  <a:pt x="10698" y="0"/>
                  <a:pt x="19785" y="7831"/>
                  <a:pt x="21363" y="18413"/>
                </a:cubicBezTo>
              </a:path>
              <a:path stroke="0" w="21364" h="21600">
                <a:moveTo>
                  <a:pt x="-1" y="0"/>
                </a:moveTo>
                <a:cubicBezTo>
                  <a:pt x="10698" y="0"/>
                  <a:pt x="19785" y="7831"/>
                  <a:pt x="21363" y="18413"/>
                </a:cubicBezTo>
                <a:lnTo>
                  <a:pt x="0" y="2160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Oval 13"/>
          <p:cNvSpPr/>
          <p:nvPr/>
        </p:nvSpPr>
        <p:spPr>
          <a:xfrm>
            <a:off x="5219640" y="2276640"/>
            <a:ext cx="1871640" cy="28080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Oval 14"/>
          <p:cNvSpPr/>
          <p:nvPr/>
        </p:nvSpPr>
        <p:spPr>
          <a:xfrm>
            <a:off x="6227640" y="2781360"/>
            <a:ext cx="863640" cy="158436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Oval 15"/>
          <p:cNvSpPr/>
          <p:nvPr/>
        </p:nvSpPr>
        <p:spPr>
          <a:xfrm>
            <a:off x="6588000" y="3284640"/>
            <a:ext cx="216000" cy="57600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-4.44444E-006 L -0.00625 0.05811 L -0.04584 0.10024 L -0.08542 0.08588 L -0.10625 0.0419 L -0.10625 -0.00972 L -0.08959 -0.06088 L -0.05625 -0.07893 L -0.02709 -0.05833 L 1.94444E-006 -4.44444E-006 Z">
                                      <p:cBhvr>
                                        <p:cTn id="117" dur="2000" fill="hold"/>
                                        <p:tgtEl>
                                          <p:spTgt spid="1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99 0.00023 L -0.01041 0.0544 L -0.05069 0.10417 L -0.09027 0.09028 L -0.11041 0.03958 L -0.11041 -0.00833 L -0.09375 -0.05602 L -0.06041 -0.07292 L -0.03125 -0.0537 L -0.00399 0.00023 Z">
                                      <p:cBhvr>
                                        <p:cTn id="119" dur="2000" fill="hold"/>
                                        <p:tgtEl>
                                          <p:spTgt spid="1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4.81481E-006 L -0.00417 0.05556 L -0.02708 0.08889 L -0.07622 0.08727 L -0.08663 0.06783 L -0.1125 0.01389 L -0.09497 -0.04328 L -0.08125 -0.075 C -0.0717 -0.08148 -0.06163 -0.06921 -0.0533 -0.06828 C -0.04618 -0.06666 -0.04358 -0.06828 -0.03872 -0.0655 C -0.03386 -0.06273 -0.03056 -0.0625 -0.02413 -0.05162 L 1.38889E-006 -4.81481E-006 Z">
                                      <p:cBhvr>
                                        <p:cTn id="121" dur="2000" fill="hold"/>
                                        <p:tgtEl>
                                          <p:spTgt spid="1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99 0.00023 L -0.00816 0.05116 L -0.03108 0.08171 L -0.07188 0.0875 L -0.08854 0.06805 L -0.11649 0.01273 L -0.10104 -0.04028 L -0.08524 -0.06875 C -0.04601 -0.07547 -0.04636 -0.09074 -0.03524 -0.06366 L -0.00399 0.00023 Z">
                                      <p:cBhvr>
                                        <p:cTn id="123" dur="2000" fill="hold"/>
                                        <p:tgtEl>
                                          <p:spTgt spid="1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Oval 4"/>
          <p:cNvSpPr/>
          <p:nvPr/>
        </p:nvSpPr>
        <p:spPr>
          <a:xfrm>
            <a:off x="2340000" y="2276640"/>
            <a:ext cx="1871640" cy="28080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Oval 5"/>
          <p:cNvSpPr/>
          <p:nvPr/>
        </p:nvSpPr>
        <p:spPr>
          <a:xfrm>
            <a:off x="3348000" y="2781360"/>
            <a:ext cx="863640" cy="158436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rc 6"/>
          <p:cNvSpPr/>
          <p:nvPr/>
        </p:nvSpPr>
        <p:spPr>
          <a:xfrm flipH="1" flipV="1">
            <a:off x="2410560" y="1439280"/>
            <a:ext cx="576360" cy="982440"/>
          </a:xfrm>
          <a:custGeom>
            <a:avLst/>
            <a:gdLst>
              <a:gd name="textAreaLeft" fmla="*/ -360 w 576360"/>
              <a:gd name="textAreaRight" fmla="*/ 576360 w 576360"/>
              <a:gd name="textAreaTop" fmla="*/ -360 h 982440"/>
              <a:gd name="textAreaBottom" fmla="*/ 982440 h 982440"/>
            </a:gdLst>
            <a:ahLst/>
            <a:rect l="textAreaLeft" t="textAreaTop" r="textAreaRight" b="textAreaBottom"/>
            <a:pathLst>
              <a:path fill="none" w="21600" h="27791">
                <a:moveTo>
                  <a:pt x="7230" y="-1"/>
                </a:moveTo>
                <a:cubicBezTo>
                  <a:pt x="15844" y="3060"/>
                  <a:pt x="21600" y="11211"/>
                  <a:pt x="21600" y="20354"/>
                </a:cubicBezTo>
                <a:cubicBezTo>
                  <a:pt x="21600" y="22891"/>
                  <a:pt x="21152" y="25408"/>
                  <a:pt x="20279" y="27791"/>
                </a:cubicBezTo>
              </a:path>
              <a:path stroke="0" w="21600" h="27791">
                <a:moveTo>
                  <a:pt x="7230" y="-1"/>
                </a:moveTo>
                <a:cubicBezTo>
                  <a:pt x="15844" y="3060"/>
                  <a:pt x="21600" y="11211"/>
                  <a:pt x="21600" y="20354"/>
                </a:cubicBezTo>
                <a:cubicBezTo>
                  <a:pt x="21600" y="22891"/>
                  <a:pt x="21152" y="25408"/>
                  <a:pt x="20279" y="27791"/>
                </a:cubicBezTo>
                <a:lnTo>
                  <a:pt x="0" y="20354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rc 7"/>
          <p:cNvSpPr/>
          <p:nvPr/>
        </p:nvSpPr>
        <p:spPr>
          <a:xfrm flipH="1" flipV="1">
            <a:off x="1908000" y="1772640"/>
            <a:ext cx="741600" cy="787320"/>
          </a:xfrm>
          <a:custGeom>
            <a:avLst/>
            <a:gdLst>
              <a:gd name="textAreaLeft" fmla="*/ 360 w 741600"/>
              <a:gd name="textAreaRight" fmla="*/ 742320 w 741600"/>
              <a:gd name="textAreaTop" fmla="*/ -360 h 787320"/>
              <a:gd name="textAreaBottom" fmla="*/ 787320 h 787320"/>
            </a:gdLst>
            <a:ahLst/>
            <a:rect l="textAreaLeft" t="textAreaTop" r="textAreaRight" b="textAreaBottom"/>
            <a:pathLst>
              <a:path fill="none" w="21600" h="32425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5401"/>
                  <a:pt x="20596" y="29135"/>
                  <a:pt x="18691" y="32424"/>
                </a:cubicBezTo>
              </a:path>
              <a:path stroke="0" w="21600" h="32425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5401"/>
                  <a:pt x="20596" y="29135"/>
                  <a:pt x="18691" y="32424"/>
                </a:cubicBezTo>
                <a:lnTo>
                  <a:pt x="0" y="2160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rc 8"/>
          <p:cNvSpPr/>
          <p:nvPr/>
        </p:nvSpPr>
        <p:spPr>
          <a:xfrm flipH="1" flipV="1">
            <a:off x="1476360" y="2348640"/>
            <a:ext cx="960480" cy="569880"/>
          </a:xfrm>
          <a:custGeom>
            <a:avLst/>
            <a:gdLst>
              <a:gd name="textAreaLeft" fmla="*/ 360 w 960480"/>
              <a:gd name="textAreaRight" fmla="*/ 961200 w 960480"/>
              <a:gd name="textAreaTop" fmla="*/ -360 h 569880"/>
              <a:gd name="textAreaBottom" fmla="*/ 569880 h 569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Oval 9"/>
          <p:cNvSpPr/>
          <p:nvPr/>
        </p:nvSpPr>
        <p:spPr>
          <a:xfrm>
            <a:off x="3708360" y="3284640"/>
            <a:ext cx="216000" cy="57600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rc 10"/>
          <p:cNvSpPr/>
          <p:nvPr/>
        </p:nvSpPr>
        <p:spPr>
          <a:xfrm flipV="1">
            <a:off x="6443640" y="1341360"/>
            <a:ext cx="528840" cy="1008000"/>
          </a:xfrm>
          <a:custGeom>
            <a:avLst/>
            <a:gdLst>
              <a:gd name="textAreaLeft" fmla="*/ 0 w 528840"/>
              <a:gd name="textAreaRight" fmla="*/ 528840 w 528840"/>
              <a:gd name="textAreaTop" fmla="*/ 360 h 1008000"/>
              <a:gd name="textAreaBottom" fmla="*/ 1008720 h 100800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rc 11"/>
          <p:cNvSpPr/>
          <p:nvPr/>
        </p:nvSpPr>
        <p:spPr>
          <a:xfrm flipV="1">
            <a:off x="6588000" y="1557360"/>
            <a:ext cx="793800" cy="1008000"/>
          </a:xfrm>
          <a:custGeom>
            <a:avLst/>
            <a:gdLst>
              <a:gd name="textAreaLeft" fmla="*/ 0 w 793800"/>
              <a:gd name="textAreaRight" fmla="*/ 794160 w 793800"/>
              <a:gd name="textAreaTop" fmla="*/ 360 h 1008000"/>
              <a:gd name="textAreaBottom" fmla="*/ 1008720 h 1008000"/>
            </a:gdLst>
            <a:ahLst/>
            <a:rect l="textAreaLeft" t="textAreaTop" r="textAreaRight" b="textAreaBottom"/>
            <a:pathLst>
              <a:path fill="none" w="30446" h="21600">
                <a:moveTo>
                  <a:pt x="0" y="1951"/>
                </a:moveTo>
                <a:cubicBezTo>
                  <a:pt x="2815" y="665"/>
                  <a:pt x="5875" y="-1"/>
                  <a:pt x="8971" y="0"/>
                </a:cubicBezTo>
                <a:cubicBezTo>
                  <a:pt x="20001" y="0"/>
                  <a:pt x="29260" y="8311"/>
                  <a:pt x="30445" y="19279"/>
                </a:cubicBezTo>
              </a:path>
              <a:path stroke="0" w="30446" h="21600">
                <a:moveTo>
                  <a:pt x="0" y="1951"/>
                </a:moveTo>
                <a:cubicBezTo>
                  <a:pt x="2815" y="665"/>
                  <a:pt x="5875" y="-1"/>
                  <a:pt x="8971" y="0"/>
                </a:cubicBezTo>
                <a:cubicBezTo>
                  <a:pt x="20001" y="0"/>
                  <a:pt x="29260" y="8311"/>
                  <a:pt x="30445" y="19279"/>
                </a:cubicBezTo>
                <a:lnTo>
                  <a:pt x="8971" y="2160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rc 12"/>
          <p:cNvSpPr/>
          <p:nvPr/>
        </p:nvSpPr>
        <p:spPr>
          <a:xfrm flipV="1">
            <a:off x="6877080" y="1844640"/>
            <a:ext cx="1008000" cy="936720"/>
          </a:xfrm>
          <a:custGeom>
            <a:avLst/>
            <a:gdLst>
              <a:gd name="textAreaLeft" fmla="*/ 0 w 1008000"/>
              <a:gd name="textAreaRight" fmla="*/ 1008360 w 1008000"/>
              <a:gd name="textAreaTop" fmla="*/ 360 h 936720"/>
              <a:gd name="textAreaBottom" fmla="*/ 937440 h 936720"/>
            </a:gdLst>
            <a:ahLst/>
            <a:rect l="textAreaLeft" t="textAreaTop" r="textAreaRight" b="textAreaBottom"/>
            <a:pathLst>
              <a:path fill="none" w="21364" h="21600">
                <a:moveTo>
                  <a:pt x="-1" y="0"/>
                </a:moveTo>
                <a:cubicBezTo>
                  <a:pt x="10698" y="0"/>
                  <a:pt x="19785" y="7831"/>
                  <a:pt x="21363" y="18413"/>
                </a:cubicBezTo>
              </a:path>
              <a:path stroke="0" w="21364" h="21600">
                <a:moveTo>
                  <a:pt x="-1" y="0"/>
                </a:moveTo>
                <a:cubicBezTo>
                  <a:pt x="10698" y="0"/>
                  <a:pt x="19785" y="7831"/>
                  <a:pt x="21363" y="18413"/>
                </a:cubicBezTo>
                <a:lnTo>
                  <a:pt x="0" y="2160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Oval 13"/>
          <p:cNvSpPr/>
          <p:nvPr/>
        </p:nvSpPr>
        <p:spPr>
          <a:xfrm>
            <a:off x="5219640" y="2276640"/>
            <a:ext cx="1871640" cy="28080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Oval 14"/>
          <p:cNvSpPr/>
          <p:nvPr/>
        </p:nvSpPr>
        <p:spPr>
          <a:xfrm>
            <a:off x="6227640" y="2781360"/>
            <a:ext cx="863640" cy="158436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15"/>
          <p:cNvSpPr/>
          <p:nvPr/>
        </p:nvSpPr>
        <p:spPr>
          <a:xfrm>
            <a:off x="6588000" y="3284640"/>
            <a:ext cx="216000" cy="57600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-4.44444E-006 L -0.00625 0.05811 L -0.04584 0.10024 L -0.08542 0.08588 L -0.10625 0.0419 L -0.10625 -0.00972 L -0.08959 -0.06088 L -0.05625 -0.07893 L -0.02709 -0.05833 L 1.94444E-006 -4.44444E-006 Z">
                                      <p:cBhvr>
                                        <p:cTn id="129" dur="2000" fill="hold"/>
                                        <p:tgtEl>
                                          <p:spTgt spid="1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99 0.00023 L -0.01041 0.0544 L -0.05069 0.10417 L -0.09027 0.09028 L -0.11041 0.03958 L -0.11041 -0.00833 L -0.09375 -0.05602 L -0.06041 -0.07292 L -0.03125 -0.0537 L -0.00399 0.00023 Z">
                                      <p:cBhvr>
                                        <p:cTn id="131" dur="2000" fill="hold"/>
                                        <p:tgtEl>
                                          <p:spTgt spid="1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4.81481E-006 L -0.00417 0.05556 L -0.02708 0.08889 L -0.07622 0.08727 L -0.08663 0.06783 L -0.1125 0.01389 L -0.09497 -0.04328 L -0.08125 -0.075 C -0.0717 -0.08148 -0.06163 -0.06921 -0.0533 -0.06828 C -0.04618 -0.06666 -0.04358 -0.06828 -0.03872 -0.0655 C -0.03386 -0.06273 -0.03056 -0.0625 -0.02413 -0.05162 L 1.38889E-006 -4.81481E-006 Z">
                                      <p:cBhvr>
                                        <p:cTn id="133" dur="2000" fill="hold"/>
                                        <p:tgtEl>
                                          <p:spTgt spid="1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99 0.00023 L -0.00816 0.05116 L -0.03108 0.08171 L -0.07188 0.0875 L -0.08854 0.06805 L -0.11649 0.01273 L -0.10104 -0.04028 L -0.08524 -0.06875 C -0.04601 -0.07547 -0.04636 -0.09074 -0.03524 -0.06366 L -0.00399 0.00023 Z">
                                      <p:cBhvr>
                                        <p:cTn id="135" dur="2000" fill="hold"/>
                                        <p:tgtEl>
                                          <p:spTgt spid="1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Oval 4"/>
          <p:cNvSpPr/>
          <p:nvPr/>
        </p:nvSpPr>
        <p:spPr>
          <a:xfrm>
            <a:off x="2340000" y="2276640"/>
            <a:ext cx="1871640" cy="28080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Oval 5"/>
          <p:cNvSpPr/>
          <p:nvPr/>
        </p:nvSpPr>
        <p:spPr>
          <a:xfrm>
            <a:off x="3348000" y="2781360"/>
            <a:ext cx="863640" cy="158436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Arc 6"/>
          <p:cNvSpPr/>
          <p:nvPr/>
        </p:nvSpPr>
        <p:spPr>
          <a:xfrm flipH="1" flipV="1">
            <a:off x="2410560" y="1439280"/>
            <a:ext cx="576360" cy="982440"/>
          </a:xfrm>
          <a:custGeom>
            <a:avLst/>
            <a:gdLst>
              <a:gd name="textAreaLeft" fmla="*/ -360 w 576360"/>
              <a:gd name="textAreaRight" fmla="*/ 576360 w 576360"/>
              <a:gd name="textAreaTop" fmla="*/ -360 h 982440"/>
              <a:gd name="textAreaBottom" fmla="*/ 982440 h 982440"/>
            </a:gdLst>
            <a:ahLst/>
            <a:rect l="textAreaLeft" t="textAreaTop" r="textAreaRight" b="textAreaBottom"/>
            <a:pathLst>
              <a:path fill="none" w="21600" h="27791">
                <a:moveTo>
                  <a:pt x="7230" y="-1"/>
                </a:moveTo>
                <a:cubicBezTo>
                  <a:pt x="15844" y="3060"/>
                  <a:pt x="21600" y="11211"/>
                  <a:pt x="21600" y="20354"/>
                </a:cubicBezTo>
                <a:cubicBezTo>
                  <a:pt x="21600" y="22891"/>
                  <a:pt x="21152" y="25408"/>
                  <a:pt x="20279" y="27791"/>
                </a:cubicBezTo>
              </a:path>
              <a:path stroke="0" w="21600" h="27791">
                <a:moveTo>
                  <a:pt x="7230" y="-1"/>
                </a:moveTo>
                <a:cubicBezTo>
                  <a:pt x="15844" y="3060"/>
                  <a:pt x="21600" y="11211"/>
                  <a:pt x="21600" y="20354"/>
                </a:cubicBezTo>
                <a:cubicBezTo>
                  <a:pt x="21600" y="22891"/>
                  <a:pt x="21152" y="25408"/>
                  <a:pt x="20279" y="27791"/>
                </a:cubicBezTo>
                <a:lnTo>
                  <a:pt x="0" y="20354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Arc 7"/>
          <p:cNvSpPr/>
          <p:nvPr/>
        </p:nvSpPr>
        <p:spPr>
          <a:xfrm flipH="1" flipV="1">
            <a:off x="1908000" y="1772640"/>
            <a:ext cx="741600" cy="787320"/>
          </a:xfrm>
          <a:custGeom>
            <a:avLst/>
            <a:gdLst>
              <a:gd name="textAreaLeft" fmla="*/ 360 w 741600"/>
              <a:gd name="textAreaRight" fmla="*/ 742320 w 741600"/>
              <a:gd name="textAreaTop" fmla="*/ -360 h 787320"/>
              <a:gd name="textAreaBottom" fmla="*/ 787320 h 787320"/>
            </a:gdLst>
            <a:ahLst/>
            <a:rect l="textAreaLeft" t="textAreaTop" r="textAreaRight" b="textAreaBottom"/>
            <a:pathLst>
              <a:path fill="none" w="21600" h="32425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5401"/>
                  <a:pt x="20596" y="29135"/>
                  <a:pt x="18691" y="32424"/>
                </a:cubicBezTo>
              </a:path>
              <a:path stroke="0" w="21600" h="32425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5401"/>
                  <a:pt x="20596" y="29135"/>
                  <a:pt x="18691" y="32424"/>
                </a:cubicBezTo>
                <a:lnTo>
                  <a:pt x="0" y="2160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rc 8"/>
          <p:cNvSpPr/>
          <p:nvPr/>
        </p:nvSpPr>
        <p:spPr>
          <a:xfrm flipH="1" flipV="1">
            <a:off x="1476360" y="2348640"/>
            <a:ext cx="960480" cy="569880"/>
          </a:xfrm>
          <a:custGeom>
            <a:avLst/>
            <a:gdLst>
              <a:gd name="textAreaLeft" fmla="*/ 360 w 960480"/>
              <a:gd name="textAreaRight" fmla="*/ 961200 w 960480"/>
              <a:gd name="textAreaTop" fmla="*/ -360 h 569880"/>
              <a:gd name="textAreaBottom" fmla="*/ 569880 h 569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Oval 9"/>
          <p:cNvSpPr/>
          <p:nvPr/>
        </p:nvSpPr>
        <p:spPr>
          <a:xfrm>
            <a:off x="3708360" y="3284640"/>
            <a:ext cx="216000" cy="57600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Arc 10"/>
          <p:cNvSpPr/>
          <p:nvPr/>
        </p:nvSpPr>
        <p:spPr>
          <a:xfrm flipV="1">
            <a:off x="6443640" y="1341360"/>
            <a:ext cx="528840" cy="1008000"/>
          </a:xfrm>
          <a:custGeom>
            <a:avLst/>
            <a:gdLst>
              <a:gd name="textAreaLeft" fmla="*/ 0 w 528840"/>
              <a:gd name="textAreaRight" fmla="*/ 528840 w 528840"/>
              <a:gd name="textAreaTop" fmla="*/ 360 h 1008000"/>
              <a:gd name="textAreaBottom" fmla="*/ 1008720 h 100800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Arc 11"/>
          <p:cNvSpPr/>
          <p:nvPr/>
        </p:nvSpPr>
        <p:spPr>
          <a:xfrm flipV="1">
            <a:off x="6588000" y="1557360"/>
            <a:ext cx="793800" cy="1008000"/>
          </a:xfrm>
          <a:custGeom>
            <a:avLst/>
            <a:gdLst>
              <a:gd name="textAreaLeft" fmla="*/ 0 w 793800"/>
              <a:gd name="textAreaRight" fmla="*/ 794160 w 793800"/>
              <a:gd name="textAreaTop" fmla="*/ 360 h 1008000"/>
              <a:gd name="textAreaBottom" fmla="*/ 1008720 h 1008000"/>
            </a:gdLst>
            <a:ahLst/>
            <a:rect l="textAreaLeft" t="textAreaTop" r="textAreaRight" b="textAreaBottom"/>
            <a:pathLst>
              <a:path fill="none" w="30446" h="21600">
                <a:moveTo>
                  <a:pt x="0" y="1951"/>
                </a:moveTo>
                <a:cubicBezTo>
                  <a:pt x="2815" y="665"/>
                  <a:pt x="5875" y="-1"/>
                  <a:pt x="8971" y="0"/>
                </a:cubicBezTo>
                <a:cubicBezTo>
                  <a:pt x="20001" y="0"/>
                  <a:pt x="29260" y="8311"/>
                  <a:pt x="30445" y="19279"/>
                </a:cubicBezTo>
              </a:path>
              <a:path stroke="0" w="30446" h="21600">
                <a:moveTo>
                  <a:pt x="0" y="1951"/>
                </a:moveTo>
                <a:cubicBezTo>
                  <a:pt x="2815" y="665"/>
                  <a:pt x="5875" y="-1"/>
                  <a:pt x="8971" y="0"/>
                </a:cubicBezTo>
                <a:cubicBezTo>
                  <a:pt x="20001" y="0"/>
                  <a:pt x="29260" y="8311"/>
                  <a:pt x="30445" y="19279"/>
                </a:cubicBezTo>
                <a:lnTo>
                  <a:pt x="8971" y="2160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rc 12"/>
          <p:cNvSpPr/>
          <p:nvPr/>
        </p:nvSpPr>
        <p:spPr>
          <a:xfrm flipV="1">
            <a:off x="6877080" y="1844640"/>
            <a:ext cx="1008000" cy="936720"/>
          </a:xfrm>
          <a:custGeom>
            <a:avLst/>
            <a:gdLst>
              <a:gd name="textAreaLeft" fmla="*/ 0 w 1008000"/>
              <a:gd name="textAreaRight" fmla="*/ 1008360 w 1008000"/>
              <a:gd name="textAreaTop" fmla="*/ 360 h 936720"/>
              <a:gd name="textAreaBottom" fmla="*/ 937440 h 936720"/>
            </a:gdLst>
            <a:ahLst/>
            <a:rect l="textAreaLeft" t="textAreaTop" r="textAreaRight" b="textAreaBottom"/>
            <a:pathLst>
              <a:path fill="none" w="21364" h="21600">
                <a:moveTo>
                  <a:pt x="-1" y="0"/>
                </a:moveTo>
                <a:cubicBezTo>
                  <a:pt x="10698" y="0"/>
                  <a:pt x="19785" y="7831"/>
                  <a:pt x="21363" y="18413"/>
                </a:cubicBezTo>
              </a:path>
              <a:path stroke="0" w="21364" h="21600">
                <a:moveTo>
                  <a:pt x="-1" y="0"/>
                </a:moveTo>
                <a:cubicBezTo>
                  <a:pt x="10698" y="0"/>
                  <a:pt x="19785" y="7831"/>
                  <a:pt x="21363" y="18413"/>
                </a:cubicBezTo>
                <a:lnTo>
                  <a:pt x="0" y="2160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Oval 13"/>
          <p:cNvSpPr/>
          <p:nvPr/>
        </p:nvSpPr>
        <p:spPr>
          <a:xfrm>
            <a:off x="5219640" y="2276640"/>
            <a:ext cx="1871640" cy="28080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Oval 14"/>
          <p:cNvSpPr/>
          <p:nvPr/>
        </p:nvSpPr>
        <p:spPr>
          <a:xfrm>
            <a:off x="6227640" y="2781360"/>
            <a:ext cx="863640" cy="158436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l 15"/>
          <p:cNvSpPr/>
          <p:nvPr/>
        </p:nvSpPr>
        <p:spPr>
          <a:xfrm>
            <a:off x="6588000" y="3284640"/>
            <a:ext cx="216000" cy="57600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-4.44444E-006 L -0.00625 0.05811 L -0.04584 0.10024 L -0.08542 0.08588 L -0.10625 0.0419 L -0.10625 -0.00972 L -0.08959 -0.06088 L -0.05625 -0.07893 L -0.02709 -0.05833 L 1.94444E-006 -4.44444E-006 Z">
                                      <p:cBhvr>
                                        <p:cTn id="141" dur="2000" fill="hold"/>
                                        <p:tgtEl>
                                          <p:spTgt spid="1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99 0.00023 L -0.01041 0.0544 L -0.05069 0.10417 L -0.09027 0.09028 L -0.11041 0.03958 L -0.11041 -0.00833 L -0.09375 -0.05602 L -0.06041 -0.07292 L -0.03125 -0.0537 L -0.00399 0.00023 Z">
                                      <p:cBhvr>
                                        <p:cTn id="143" dur="2000" fill="hold"/>
                                        <p:tgtEl>
                                          <p:spTgt spid="2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4.81481E-006 L -0.00417 0.05556 L -0.02708 0.08889 L -0.07622 0.08727 L -0.08663 0.06783 L -0.1125 0.01389 L -0.09497 -0.04328 L -0.08125 -0.075 C -0.0717 -0.08148 -0.06163 -0.06921 -0.0533 -0.06828 C -0.04618 -0.06666 -0.04358 -0.06828 -0.03872 -0.0655 C -0.03386 -0.06273 -0.03056 -0.0625 -0.02413 -0.05162 L 1.38889E-006 -4.81481E-006 Z">
                                      <p:cBhvr>
                                        <p:cTn id="145" dur="2000" fill="hold"/>
                                        <p:tgtEl>
                                          <p:spTgt spid="2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99 0.00023 L -0.00816 0.05116 L -0.03108 0.08171 L -0.07188 0.0875 L -0.08854 0.06805 L -0.11649 0.01273 L -0.10104 -0.04028 L -0.08524 -0.06875 C -0.04601 -0.07547 -0.04636 -0.09074 -0.03524 -0.06366 L -0.00399 0.00023 Z">
                                      <p:cBhvr>
                                        <p:cTn id="147" dur="2000" fill="hold"/>
                                        <p:tgtEl>
                                          <p:spTgt spid="2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Oval 4"/>
          <p:cNvSpPr/>
          <p:nvPr/>
        </p:nvSpPr>
        <p:spPr>
          <a:xfrm>
            <a:off x="2340000" y="2276640"/>
            <a:ext cx="1871640" cy="28080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5"/>
          <p:cNvSpPr/>
          <p:nvPr/>
        </p:nvSpPr>
        <p:spPr>
          <a:xfrm>
            <a:off x="3348000" y="2781360"/>
            <a:ext cx="863640" cy="158436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Arc 6"/>
          <p:cNvSpPr/>
          <p:nvPr/>
        </p:nvSpPr>
        <p:spPr>
          <a:xfrm flipH="1" flipV="1">
            <a:off x="2410560" y="1439280"/>
            <a:ext cx="576360" cy="982440"/>
          </a:xfrm>
          <a:custGeom>
            <a:avLst/>
            <a:gdLst>
              <a:gd name="textAreaLeft" fmla="*/ -360 w 576360"/>
              <a:gd name="textAreaRight" fmla="*/ 576360 w 576360"/>
              <a:gd name="textAreaTop" fmla="*/ -360 h 982440"/>
              <a:gd name="textAreaBottom" fmla="*/ 982440 h 982440"/>
            </a:gdLst>
            <a:ahLst/>
            <a:rect l="textAreaLeft" t="textAreaTop" r="textAreaRight" b="textAreaBottom"/>
            <a:pathLst>
              <a:path fill="none" w="21600" h="27791">
                <a:moveTo>
                  <a:pt x="7230" y="-1"/>
                </a:moveTo>
                <a:cubicBezTo>
                  <a:pt x="15844" y="3060"/>
                  <a:pt x="21600" y="11211"/>
                  <a:pt x="21600" y="20354"/>
                </a:cubicBezTo>
                <a:cubicBezTo>
                  <a:pt x="21600" y="22891"/>
                  <a:pt x="21152" y="25408"/>
                  <a:pt x="20279" y="27791"/>
                </a:cubicBezTo>
              </a:path>
              <a:path stroke="0" w="21600" h="27791">
                <a:moveTo>
                  <a:pt x="7230" y="-1"/>
                </a:moveTo>
                <a:cubicBezTo>
                  <a:pt x="15844" y="3060"/>
                  <a:pt x="21600" y="11211"/>
                  <a:pt x="21600" y="20354"/>
                </a:cubicBezTo>
                <a:cubicBezTo>
                  <a:pt x="21600" y="22891"/>
                  <a:pt x="21152" y="25408"/>
                  <a:pt x="20279" y="27791"/>
                </a:cubicBezTo>
                <a:lnTo>
                  <a:pt x="0" y="20354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rc 7"/>
          <p:cNvSpPr/>
          <p:nvPr/>
        </p:nvSpPr>
        <p:spPr>
          <a:xfrm flipH="1" flipV="1">
            <a:off x="1908000" y="1772640"/>
            <a:ext cx="741600" cy="787320"/>
          </a:xfrm>
          <a:custGeom>
            <a:avLst/>
            <a:gdLst>
              <a:gd name="textAreaLeft" fmla="*/ 360 w 741600"/>
              <a:gd name="textAreaRight" fmla="*/ 742320 w 741600"/>
              <a:gd name="textAreaTop" fmla="*/ -360 h 787320"/>
              <a:gd name="textAreaBottom" fmla="*/ 787320 h 787320"/>
            </a:gdLst>
            <a:ahLst/>
            <a:rect l="textAreaLeft" t="textAreaTop" r="textAreaRight" b="textAreaBottom"/>
            <a:pathLst>
              <a:path fill="none" w="21600" h="32425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5401"/>
                  <a:pt x="20596" y="29135"/>
                  <a:pt x="18691" y="32424"/>
                </a:cubicBezTo>
              </a:path>
              <a:path stroke="0" w="21600" h="32425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5401"/>
                  <a:pt x="20596" y="29135"/>
                  <a:pt x="18691" y="32424"/>
                </a:cubicBezTo>
                <a:lnTo>
                  <a:pt x="0" y="2160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Arc 8"/>
          <p:cNvSpPr/>
          <p:nvPr/>
        </p:nvSpPr>
        <p:spPr>
          <a:xfrm flipH="1" flipV="1">
            <a:off x="1476360" y="2348640"/>
            <a:ext cx="960480" cy="569880"/>
          </a:xfrm>
          <a:custGeom>
            <a:avLst/>
            <a:gdLst>
              <a:gd name="textAreaLeft" fmla="*/ 360 w 960480"/>
              <a:gd name="textAreaRight" fmla="*/ 961200 w 960480"/>
              <a:gd name="textAreaTop" fmla="*/ -360 h 569880"/>
              <a:gd name="textAreaBottom" fmla="*/ 569880 h 569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Oval 9"/>
          <p:cNvSpPr/>
          <p:nvPr/>
        </p:nvSpPr>
        <p:spPr>
          <a:xfrm>
            <a:off x="3708360" y="3284640"/>
            <a:ext cx="216000" cy="57600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rc 10"/>
          <p:cNvSpPr/>
          <p:nvPr/>
        </p:nvSpPr>
        <p:spPr>
          <a:xfrm flipV="1">
            <a:off x="6443640" y="1341360"/>
            <a:ext cx="528840" cy="1008000"/>
          </a:xfrm>
          <a:custGeom>
            <a:avLst/>
            <a:gdLst>
              <a:gd name="textAreaLeft" fmla="*/ 0 w 528840"/>
              <a:gd name="textAreaRight" fmla="*/ 528840 w 528840"/>
              <a:gd name="textAreaTop" fmla="*/ 360 h 1008000"/>
              <a:gd name="textAreaBottom" fmla="*/ 1008720 h 100800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rc 11"/>
          <p:cNvSpPr/>
          <p:nvPr/>
        </p:nvSpPr>
        <p:spPr>
          <a:xfrm flipV="1">
            <a:off x="6588000" y="1557360"/>
            <a:ext cx="793800" cy="1008000"/>
          </a:xfrm>
          <a:custGeom>
            <a:avLst/>
            <a:gdLst>
              <a:gd name="textAreaLeft" fmla="*/ 0 w 793800"/>
              <a:gd name="textAreaRight" fmla="*/ 794160 w 793800"/>
              <a:gd name="textAreaTop" fmla="*/ 360 h 1008000"/>
              <a:gd name="textAreaBottom" fmla="*/ 1008720 h 1008000"/>
            </a:gdLst>
            <a:ahLst/>
            <a:rect l="textAreaLeft" t="textAreaTop" r="textAreaRight" b="textAreaBottom"/>
            <a:pathLst>
              <a:path fill="none" w="30446" h="21600">
                <a:moveTo>
                  <a:pt x="0" y="1951"/>
                </a:moveTo>
                <a:cubicBezTo>
                  <a:pt x="2815" y="665"/>
                  <a:pt x="5875" y="-1"/>
                  <a:pt x="8971" y="0"/>
                </a:cubicBezTo>
                <a:cubicBezTo>
                  <a:pt x="20001" y="0"/>
                  <a:pt x="29260" y="8311"/>
                  <a:pt x="30445" y="19279"/>
                </a:cubicBezTo>
              </a:path>
              <a:path stroke="0" w="30446" h="21600">
                <a:moveTo>
                  <a:pt x="0" y="1951"/>
                </a:moveTo>
                <a:cubicBezTo>
                  <a:pt x="2815" y="665"/>
                  <a:pt x="5875" y="-1"/>
                  <a:pt x="8971" y="0"/>
                </a:cubicBezTo>
                <a:cubicBezTo>
                  <a:pt x="20001" y="0"/>
                  <a:pt x="29260" y="8311"/>
                  <a:pt x="30445" y="19279"/>
                </a:cubicBezTo>
                <a:lnTo>
                  <a:pt x="8971" y="2160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Arc 12"/>
          <p:cNvSpPr/>
          <p:nvPr/>
        </p:nvSpPr>
        <p:spPr>
          <a:xfrm flipV="1">
            <a:off x="6877080" y="1844640"/>
            <a:ext cx="1008000" cy="936720"/>
          </a:xfrm>
          <a:custGeom>
            <a:avLst/>
            <a:gdLst>
              <a:gd name="textAreaLeft" fmla="*/ 0 w 1008000"/>
              <a:gd name="textAreaRight" fmla="*/ 1008360 w 1008000"/>
              <a:gd name="textAreaTop" fmla="*/ 360 h 936720"/>
              <a:gd name="textAreaBottom" fmla="*/ 937440 h 936720"/>
            </a:gdLst>
            <a:ahLst/>
            <a:rect l="textAreaLeft" t="textAreaTop" r="textAreaRight" b="textAreaBottom"/>
            <a:pathLst>
              <a:path fill="none" w="21364" h="21600">
                <a:moveTo>
                  <a:pt x="-1" y="0"/>
                </a:moveTo>
                <a:cubicBezTo>
                  <a:pt x="10698" y="0"/>
                  <a:pt x="19785" y="7831"/>
                  <a:pt x="21363" y="18413"/>
                </a:cubicBezTo>
              </a:path>
              <a:path stroke="0" w="21364" h="21600">
                <a:moveTo>
                  <a:pt x="-1" y="0"/>
                </a:moveTo>
                <a:cubicBezTo>
                  <a:pt x="10698" y="0"/>
                  <a:pt x="19785" y="7831"/>
                  <a:pt x="21363" y="18413"/>
                </a:cubicBezTo>
                <a:lnTo>
                  <a:pt x="0" y="2160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Oval 13"/>
          <p:cNvSpPr/>
          <p:nvPr/>
        </p:nvSpPr>
        <p:spPr>
          <a:xfrm>
            <a:off x="5219640" y="2276640"/>
            <a:ext cx="1871640" cy="28080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Oval 14"/>
          <p:cNvSpPr/>
          <p:nvPr/>
        </p:nvSpPr>
        <p:spPr>
          <a:xfrm>
            <a:off x="6227640" y="2781360"/>
            <a:ext cx="863640" cy="158436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Oval 15"/>
          <p:cNvSpPr/>
          <p:nvPr/>
        </p:nvSpPr>
        <p:spPr>
          <a:xfrm>
            <a:off x="6588000" y="3284640"/>
            <a:ext cx="216000" cy="57600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-4.44444E-006 L -0.00625 0.05811 L -0.04584 0.10024 L -0.08542 0.08588 L -0.10625 0.0419 L -0.10625 -0.00972 L -0.08959 -0.06088 L -0.05625 -0.07893 L -0.02709 -0.05833 L 1.94444E-006 -4.44444E-006 Z">
                                      <p:cBhvr>
                                        <p:cTn id="153" dur="2000" fill="hold"/>
                                        <p:tgtEl>
                                          <p:spTgt spid="2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99 0.00023 L -0.01041 0.0544 L -0.05069 0.10417 L -0.09027 0.09028 L -0.11041 0.03958 L -0.11041 -0.00833 L -0.09375 -0.05602 L -0.06041 -0.07292 L -0.03125 -0.0537 L -0.00399 0.00023 Z">
                                      <p:cBhvr>
                                        <p:cTn id="155" dur="2000" fill="hold"/>
                                        <p:tgtEl>
                                          <p:spTgt spid="2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4.81481E-006 L -0.00417 0.05556 L -0.02708 0.08889 L -0.07622 0.08727 L -0.08663 0.06783 L -0.1125 0.01389 L -0.09497 -0.04328 L -0.08125 -0.075 C -0.0717 -0.08148 -0.06163 -0.06921 -0.0533 -0.06828 C -0.04618 -0.06666 -0.04358 -0.06828 -0.03872 -0.0655 C -0.03386 -0.06273 -0.03056 -0.0625 -0.02413 -0.05162 L 1.38889E-006 -4.81481E-006 Z">
                                      <p:cBhvr>
                                        <p:cTn id="157" dur="2000" fill="hold"/>
                                        <p:tgtEl>
                                          <p:spTgt spid="2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99 0.00023 L -0.00816 0.05116 L -0.03108 0.08171 L -0.07188 0.0875 L -0.08854 0.06805 L -0.11649 0.01273 L -0.10104 -0.04028 L -0.08524 -0.06875 C -0.04601 -0.07547 -0.04636 -0.09074 -0.03524 -0.06366 L -0.00399 0.00023 Z">
                                      <p:cBhvr>
                                        <p:cTn id="159" dur="2000" fill="hold"/>
                                        <p:tgtEl>
                                          <p:spTgt spid="2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Oval 4"/>
          <p:cNvSpPr/>
          <p:nvPr/>
        </p:nvSpPr>
        <p:spPr>
          <a:xfrm>
            <a:off x="2340000" y="2276640"/>
            <a:ext cx="1871640" cy="28080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Oval 5"/>
          <p:cNvSpPr/>
          <p:nvPr/>
        </p:nvSpPr>
        <p:spPr>
          <a:xfrm>
            <a:off x="3348000" y="2781360"/>
            <a:ext cx="863640" cy="158436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Arc 6"/>
          <p:cNvSpPr/>
          <p:nvPr/>
        </p:nvSpPr>
        <p:spPr>
          <a:xfrm flipH="1" flipV="1">
            <a:off x="2410560" y="1439280"/>
            <a:ext cx="576360" cy="982440"/>
          </a:xfrm>
          <a:custGeom>
            <a:avLst/>
            <a:gdLst>
              <a:gd name="textAreaLeft" fmla="*/ -360 w 576360"/>
              <a:gd name="textAreaRight" fmla="*/ 576360 w 576360"/>
              <a:gd name="textAreaTop" fmla="*/ -360 h 982440"/>
              <a:gd name="textAreaBottom" fmla="*/ 982440 h 982440"/>
            </a:gdLst>
            <a:ahLst/>
            <a:rect l="textAreaLeft" t="textAreaTop" r="textAreaRight" b="textAreaBottom"/>
            <a:pathLst>
              <a:path fill="none" w="21600" h="27791">
                <a:moveTo>
                  <a:pt x="7230" y="-1"/>
                </a:moveTo>
                <a:cubicBezTo>
                  <a:pt x="15844" y="3060"/>
                  <a:pt x="21600" y="11211"/>
                  <a:pt x="21600" y="20354"/>
                </a:cubicBezTo>
                <a:cubicBezTo>
                  <a:pt x="21600" y="22891"/>
                  <a:pt x="21152" y="25408"/>
                  <a:pt x="20279" y="27791"/>
                </a:cubicBezTo>
              </a:path>
              <a:path stroke="0" w="21600" h="27791">
                <a:moveTo>
                  <a:pt x="7230" y="-1"/>
                </a:moveTo>
                <a:cubicBezTo>
                  <a:pt x="15844" y="3060"/>
                  <a:pt x="21600" y="11211"/>
                  <a:pt x="21600" y="20354"/>
                </a:cubicBezTo>
                <a:cubicBezTo>
                  <a:pt x="21600" y="22891"/>
                  <a:pt x="21152" y="25408"/>
                  <a:pt x="20279" y="27791"/>
                </a:cubicBezTo>
                <a:lnTo>
                  <a:pt x="0" y="20354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Arc 7"/>
          <p:cNvSpPr/>
          <p:nvPr/>
        </p:nvSpPr>
        <p:spPr>
          <a:xfrm flipH="1" flipV="1">
            <a:off x="1908000" y="1772640"/>
            <a:ext cx="741600" cy="787320"/>
          </a:xfrm>
          <a:custGeom>
            <a:avLst/>
            <a:gdLst>
              <a:gd name="textAreaLeft" fmla="*/ 360 w 741600"/>
              <a:gd name="textAreaRight" fmla="*/ 742320 w 741600"/>
              <a:gd name="textAreaTop" fmla="*/ -360 h 787320"/>
              <a:gd name="textAreaBottom" fmla="*/ 787320 h 787320"/>
            </a:gdLst>
            <a:ahLst/>
            <a:rect l="textAreaLeft" t="textAreaTop" r="textAreaRight" b="textAreaBottom"/>
            <a:pathLst>
              <a:path fill="none" w="21600" h="32425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5401"/>
                  <a:pt x="20596" y="29135"/>
                  <a:pt x="18691" y="32424"/>
                </a:cubicBezTo>
              </a:path>
              <a:path stroke="0" w="21600" h="32425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5401"/>
                  <a:pt x="20596" y="29135"/>
                  <a:pt x="18691" y="32424"/>
                </a:cubicBezTo>
                <a:lnTo>
                  <a:pt x="0" y="2160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Arc 8"/>
          <p:cNvSpPr/>
          <p:nvPr/>
        </p:nvSpPr>
        <p:spPr>
          <a:xfrm flipH="1" flipV="1">
            <a:off x="1476360" y="2348640"/>
            <a:ext cx="960480" cy="569880"/>
          </a:xfrm>
          <a:custGeom>
            <a:avLst/>
            <a:gdLst>
              <a:gd name="textAreaLeft" fmla="*/ 360 w 960480"/>
              <a:gd name="textAreaRight" fmla="*/ 961200 w 960480"/>
              <a:gd name="textAreaTop" fmla="*/ -360 h 569880"/>
              <a:gd name="textAreaBottom" fmla="*/ 569880 h 569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Oval 9"/>
          <p:cNvSpPr/>
          <p:nvPr/>
        </p:nvSpPr>
        <p:spPr>
          <a:xfrm>
            <a:off x="3708360" y="3284640"/>
            <a:ext cx="216000" cy="57600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rc 10"/>
          <p:cNvSpPr/>
          <p:nvPr/>
        </p:nvSpPr>
        <p:spPr>
          <a:xfrm flipV="1">
            <a:off x="6443640" y="1341360"/>
            <a:ext cx="528840" cy="1008000"/>
          </a:xfrm>
          <a:custGeom>
            <a:avLst/>
            <a:gdLst>
              <a:gd name="textAreaLeft" fmla="*/ 0 w 528840"/>
              <a:gd name="textAreaRight" fmla="*/ 528840 w 528840"/>
              <a:gd name="textAreaTop" fmla="*/ 360 h 1008000"/>
              <a:gd name="textAreaBottom" fmla="*/ 1008720 h 100800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rc 11"/>
          <p:cNvSpPr/>
          <p:nvPr/>
        </p:nvSpPr>
        <p:spPr>
          <a:xfrm flipV="1">
            <a:off x="6588000" y="1557360"/>
            <a:ext cx="793800" cy="1008000"/>
          </a:xfrm>
          <a:custGeom>
            <a:avLst/>
            <a:gdLst>
              <a:gd name="textAreaLeft" fmla="*/ 0 w 793800"/>
              <a:gd name="textAreaRight" fmla="*/ 794160 w 793800"/>
              <a:gd name="textAreaTop" fmla="*/ 360 h 1008000"/>
              <a:gd name="textAreaBottom" fmla="*/ 1008720 h 1008000"/>
            </a:gdLst>
            <a:ahLst/>
            <a:rect l="textAreaLeft" t="textAreaTop" r="textAreaRight" b="textAreaBottom"/>
            <a:pathLst>
              <a:path fill="none" w="30446" h="21600">
                <a:moveTo>
                  <a:pt x="0" y="1951"/>
                </a:moveTo>
                <a:cubicBezTo>
                  <a:pt x="2815" y="665"/>
                  <a:pt x="5875" y="-1"/>
                  <a:pt x="8971" y="0"/>
                </a:cubicBezTo>
                <a:cubicBezTo>
                  <a:pt x="20001" y="0"/>
                  <a:pt x="29260" y="8311"/>
                  <a:pt x="30445" y="19279"/>
                </a:cubicBezTo>
              </a:path>
              <a:path stroke="0" w="30446" h="21600">
                <a:moveTo>
                  <a:pt x="0" y="1951"/>
                </a:moveTo>
                <a:cubicBezTo>
                  <a:pt x="2815" y="665"/>
                  <a:pt x="5875" y="-1"/>
                  <a:pt x="8971" y="0"/>
                </a:cubicBezTo>
                <a:cubicBezTo>
                  <a:pt x="20001" y="0"/>
                  <a:pt x="29260" y="8311"/>
                  <a:pt x="30445" y="19279"/>
                </a:cubicBezTo>
                <a:lnTo>
                  <a:pt x="8971" y="2160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rc 12"/>
          <p:cNvSpPr/>
          <p:nvPr/>
        </p:nvSpPr>
        <p:spPr>
          <a:xfrm flipV="1">
            <a:off x="6877080" y="1844640"/>
            <a:ext cx="1008000" cy="936720"/>
          </a:xfrm>
          <a:custGeom>
            <a:avLst/>
            <a:gdLst>
              <a:gd name="textAreaLeft" fmla="*/ 0 w 1008000"/>
              <a:gd name="textAreaRight" fmla="*/ 1008360 w 1008000"/>
              <a:gd name="textAreaTop" fmla="*/ 360 h 936720"/>
              <a:gd name="textAreaBottom" fmla="*/ 937440 h 936720"/>
            </a:gdLst>
            <a:ahLst/>
            <a:rect l="textAreaLeft" t="textAreaTop" r="textAreaRight" b="textAreaBottom"/>
            <a:pathLst>
              <a:path fill="none" w="21364" h="21600">
                <a:moveTo>
                  <a:pt x="-1" y="0"/>
                </a:moveTo>
                <a:cubicBezTo>
                  <a:pt x="10698" y="0"/>
                  <a:pt x="19785" y="7831"/>
                  <a:pt x="21363" y="18413"/>
                </a:cubicBezTo>
              </a:path>
              <a:path stroke="0" w="21364" h="21600">
                <a:moveTo>
                  <a:pt x="-1" y="0"/>
                </a:moveTo>
                <a:cubicBezTo>
                  <a:pt x="10698" y="0"/>
                  <a:pt x="19785" y="7831"/>
                  <a:pt x="21363" y="18413"/>
                </a:cubicBezTo>
                <a:lnTo>
                  <a:pt x="0" y="2160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Oval 13"/>
          <p:cNvSpPr/>
          <p:nvPr/>
        </p:nvSpPr>
        <p:spPr>
          <a:xfrm>
            <a:off x="5219640" y="2276640"/>
            <a:ext cx="1871640" cy="28080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Oval 14"/>
          <p:cNvSpPr/>
          <p:nvPr/>
        </p:nvSpPr>
        <p:spPr>
          <a:xfrm>
            <a:off x="6227640" y="2781360"/>
            <a:ext cx="863640" cy="158436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Oval 15"/>
          <p:cNvSpPr/>
          <p:nvPr/>
        </p:nvSpPr>
        <p:spPr>
          <a:xfrm>
            <a:off x="6588000" y="3284640"/>
            <a:ext cx="216000" cy="57600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-4.44444E-006 L -0.00625 0.05811 L -0.04584 0.10024 L -0.08542 0.08588 L -0.10625 0.0419 L -0.10625 -0.00972 L -0.08959 -0.06088 L -0.05625 -0.07893 L -0.02709 -0.05833 L 1.94444E-006 -4.44444E-006 Z">
                                      <p:cBhvr>
                                        <p:cTn id="165" dur="2000" fill="hold"/>
                                        <p:tgtEl>
                                          <p:spTgt spid="2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99 0.00023 L -0.01041 0.0544 L -0.05069 0.10417 L -0.09027 0.09028 L -0.11041 0.03958 L -0.11041 -0.00833 L -0.09375 -0.05602 L -0.06041 -0.07292 L -0.03125 -0.0537 L -0.00399 0.00023 Z">
                                      <p:cBhvr>
                                        <p:cTn id="167" dur="2000" fill="hold"/>
                                        <p:tgtEl>
                                          <p:spTgt spid="2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4.81481E-006 L -0.00417 0.05556 L -0.02708 0.08889 L -0.07622 0.08727 L -0.08663 0.06783 L -0.1125 0.01389 L -0.09497 -0.04328 L -0.08125 -0.075 C -0.0717 -0.08148 -0.06163 -0.06921 -0.0533 -0.06828 C -0.04618 -0.06666 -0.04358 -0.06828 -0.03872 -0.0655 C -0.03386 -0.06273 -0.03056 -0.0625 -0.02413 -0.05162 L 1.38889E-006 -4.81481E-006 Z">
                                      <p:cBhvr>
                                        <p:cTn id="169" dur="2000" fill="hold"/>
                                        <p:tgtEl>
                                          <p:spTgt spid="2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99 0.00023 L -0.00816 0.05116 L -0.03108 0.08171 L -0.07188 0.0875 L -0.08854 0.06805 L -0.11649 0.01273 L -0.10104 -0.04028 L -0.08524 -0.06875 C -0.04601 -0.07547 -0.04636 -0.09074 -0.03524 -0.06366 L -0.00399 0.00023 Z">
                                      <p:cBhvr>
                                        <p:cTn id="171" dur="2000" fill="hold"/>
                                        <p:tgtEl>
                                          <p:spTgt spid="2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Oval 4"/>
          <p:cNvSpPr/>
          <p:nvPr/>
        </p:nvSpPr>
        <p:spPr>
          <a:xfrm>
            <a:off x="2340000" y="2276640"/>
            <a:ext cx="1871640" cy="28080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Oval 5"/>
          <p:cNvSpPr/>
          <p:nvPr/>
        </p:nvSpPr>
        <p:spPr>
          <a:xfrm>
            <a:off x="2843280" y="2781360"/>
            <a:ext cx="863640" cy="158436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Arc 6"/>
          <p:cNvSpPr/>
          <p:nvPr/>
        </p:nvSpPr>
        <p:spPr>
          <a:xfrm flipH="1" flipV="1">
            <a:off x="2410560" y="1439280"/>
            <a:ext cx="576360" cy="982440"/>
          </a:xfrm>
          <a:custGeom>
            <a:avLst/>
            <a:gdLst>
              <a:gd name="textAreaLeft" fmla="*/ -360 w 576360"/>
              <a:gd name="textAreaRight" fmla="*/ 576360 w 576360"/>
              <a:gd name="textAreaTop" fmla="*/ -360 h 982440"/>
              <a:gd name="textAreaBottom" fmla="*/ 982440 h 982440"/>
            </a:gdLst>
            <a:ahLst/>
            <a:rect l="textAreaLeft" t="textAreaTop" r="textAreaRight" b="textAreaBottom"/>
            <a:pathLst>
              <a:path fill="none" w="21600" h="27791">
                <a:moveTo>
                  <a:pt x="7230" y="-1"/>
                </a:moveTo>
                <a:cubicBezTo>
                  <a:pt x="15844" y="3060"/>
                  <a:pt x="21600" y="11211"/>
                  <a:pt x="21600" y="20354"/>
                </a:cubicBezTo>
                <a:cubicBezTo>
                  <a:pt x="21600" y="22891"/>
                  <a:pt x="21152" y="25408"/>
                  <a:pt x="20279" y="27791"/>
                </a:cubicBezTo>
              </a:path>
              <a:path stroke="0" w="21600" h="27791">
                <a:moveTo>
                  <a:pt x="7230" y="-1"/>
                </a:moveTo>
                <a:cubicBezTo>
                  <a:pt x="15844" y="3060"/>
                  <a:pt x="21600" y="11211"/>
                  <a:pt x="21600" y="20354"/>
                </a:cubicBezTo>
                <a:cubicBezTo>
                  <a:pt x="21600" y="22891"/>
                  <a:pt x="21152" y="25408"/>
                  <a:pt x="20279" y="27791"/>
                </a:cubicBezTo>
                <a:lnTo>
                  <a:pt x="0" y="20354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Arc 7"/>
          <p:cNvSpPr/>
          <p:nvPr/>
        </p:nvSpPr>
        <p:spPr>
          <a:xfrm flipH="1" flipV="1">
            <a:off x="1908000" y="1772640"/>
            <a:ext cx="741600" cy="787320"/>
          </a:xfrm>
          <a:custGeom>
            <a:avLst/>
            <a:gdLst>
              <a:gd name="textAreaLeft" fmla="*/ 360 w 741600"/>
              <a:gd name="textAreaRight" fmla="*/ 742320 w 741600"/>
              <a:gd name="textAreaTop" fmla="*/ -360 h 787320"/>
              <a:gd name="textAreaBottom" fmla="*/ 787320 h 787320"/>
            </a:gdLst>
            <a:ahLst/>
            <a:rect l="textAreaLeft" t="textAreaTop" r="textAreaRight" b="textAreaBottom"/>
            <a:pathLst>
              <a:path fill="none" w="21600" h="32425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5401"/>
                  <a:pt x="20596" y="29135"/>
                  <a:pt x="18691" y="32424"/>
                </a:cubicBezTo>
              </a:path>
              <a:path stroke="0" w="21600" h="32425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5401"/>
                  <a:pt x="20596" y="29135"/>
                  <a:pt x="18691" y="32424"/>
                </a:cubicBezTo>
                <a:lnTo>
                  <a:pt x="0" y="2160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Arc 8"/>
          <p:cNvSpPr/>
          <p:nvPr/>
        </p:nvSpPr>
        <p:spPr>
          <a:xfrm flipH="1" flipV="1">
            <a:off x="1476360" y="2348640"/>
            <a:ext cx="960480" cy="569880"/>
          </a:xfrm>
          <a:custGeom>
            <a:avLst/>
            <a:gdLst>
              <a:gd name="textAreaLeft" fmla="*/ 360 w 960480"/>
              <a:gd name="textAreaRight" fmla="*/ 961200 w 960480"/>
              <a:gd name="textAreaTop" fmla="*/ -360 h 569880"/>
              <a:gd name="textAreaBottom" fmla="*/ 569880 h 569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Oval 9"/>
          <p:cNvSpPr/>
          <p:nvPr/>
        </p:nvSpPr>
        <p:spPr>
          <a:xfrm>
            <a:off x="3203640" y="3284640"/>
            <a:ext cx="216000" cy="57600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Arc 10"/>
          <p:cNvSpPr/>
          <p:nvPr/>
        </p:nvSpPr>
        <p:spPr>
          <a:xfrm flipV="1">
            <a:off x="6443640" y="1341360"/>
            <a:ext cx="528840" cy="1008000"/>
          </a:xfrm>
          <a:custGeom>
            <a:avLst/>
            <a:gdLst>
              <a:gd name="textAreaLeft" fmla="*/ 0 w 528840"/>
              <a:gd name="textAreaRight" fmla="*/ 528840 w 528840"/>
              <a:gd name="textAreaTop" fmla="*/ 360 h 1008000"/>
              <a:gd name="textAreaBottom" fmla="*/ 1008720 h 100800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Arc 11"/>
          <p:cNvSpPr/>
          <p:nvPr/>
        </p:nvSpPr>
        <p:spPr>
          <a:xfrm flipV="1">
            <a:off x="6588000" y="1557360"/>
            <a:ext cx="793800" cy="1008000"/>
          </a:xfrm>
          <a:custGeom>
            <a:avLst/>
            <a:gdLst>
              <a:gd name="textAreaLeft" fmla="*/ 0 w 793800"/>
              <a:gd name="textAreaRight" fmla="*/ 794160 w 793800"/>
              <a:gd name="textAreaTop" fmla="*/ 360 h 1008000"/>
              <a:gd name="textAreaBottom" fmla="*/ 1008720 h 1008000"/>
            </a:gdLst>
            <a:ahLst/>
            <a:rect l="textAreaLeft" t="textAreaTop" r="textAreaRight" b="textAreaBottom"/>
            <a:pathLst>
              <a:path fill="none" w="30446" h="21600">
                <a:moveTo>
                  <a:pt x="0" y="1951"/>
                </a:moveTo>
                <a:cubicBezTo>
                  <a:pt x="2815" y="665"/>
                  <a:pt x="5875" y="-1"/>
                  <a:pt x="8971" y="0"/>
                </a:cubicBezTo>
                <a:cubicBezTo>
                  <a:pt x="20001" y="0"/>
                  <a:pt x="29260" y="8311"/>
                  <a:pt x="30445" y="19279"/>
                </a:cubicBezTo>
              </a:path>
              <a:path stroke="0" w="30446" h="21600">
                <a:moveTo>
                  <a:pt x="0" y="1951"/>
                </a:moveTo>
                <a:cubicBezTo>
                  <a:pt x="2815" y="665"/>
                  <a:pt x="5875" y="-1"/>
                  <a:pt x="8971" y="0"/>
                </a:cubicBezTo>
                <a:cubicBezTo>
                  <a:pt x="20001" y="0"/>
                  <a:pt x="29260" y="8311"/>
                  <a:pt x="30445" y="19279"/>
                </a:cubicBezTo>
                <a:lnTo>
                  <a:pt x="8971" y="2160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Arc 12"/>
          <p:cNvSpPr/>
          <p:nvPr/>
        </p:nvSpPr>
        <p:spPr>
          <a:xfrm flipV="1">
            <a:off x="6877080" y="1844640"/>
            <a:ext cx="1008000" cy="936720"/>
          </a:xfrm>
          <a:custGeom>
            <a:avLst/>
            <a:gdLst>
              <a:gd name="textAreaLeft" fmla="*/ 0 w 1008000"/>
              <a:gd name="textAreaRight" fmla="*/ 1008360 w 1008000"/>
              <a:gd name="textAreaTop" fmla="*/ 360 h 936720"/>
              <a:gd name="textAreaBottom" fmla="*/ 937440 h 936720"/>
            </a:gdLst>
            <a:ahLst/>
            <a:rect l="textAreaLeft" t="textAreaTop" r="textAreaRight" b="textAreaBottom"/>
            <a:pathLst>
              <a:path fill="none" w="21364" h="21600">
                <a:moveTo>
                  <a:pt x="-1" y="0"/>
                </a:moveTo>
                <a:cubicBezTo>
                  <a:pt x="10698" y="0"/>
                  <a:pt x="19785" y="7831"/>
                  <a:pt x="21363" y="18413"/>
                </a:cubicBezTo>
              </a:path>
              <a:path stroke="0" w="21364" h="21600">
                <a:moveTo>
                  <a:pt x="-1" y="0"/>
                </a:moveTo>
                <a:cubicBezTo>
                  <a:pt x="10698" y="0"/>
                  <a:pt x="19785" y="7831"/>
                  <a:pt x="21363" y="18413"/>
                </a:cubicBezTo>
                <a:lnTo>
                  <a:pt x="0" y="2160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Oval 13"/>
          <p:cNvSpPr/>
          <p:nvPr/>
        </p:nvSpPr>
        <p:spPr>
          <a:xfrm>
            <a:off x="5219640" y="2276640"/>
            <a:ext cx="1871640" cy="28080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Oval 14"/>
          <p:cNvSpPr/>
          <p:nvPr/>
        </p:nvSpPr>
        <p:spPr>
          <a:xfrm>
            <a:off x="5722920" y="2781360"/>
            <a:ext cx="863640" cy="158436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Oval 15"/>
          <p:cNvSpPr/>
          <p:nvPr/>
        </p:nvSpPr>
        <p:spPr>
          <a:xfrm>
            <a:off x="6083280" y="3284640"/>
            <a:ext cx="216000" cy="57600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4.81481E-006 L 0.0316 0.08403 E">
                                      <p:cBhvr>
                                        <p:cTn id="177" dur="2000" fill="hold"/>
                                        <p:tgtEl>
                                          <p:spTgt spid="2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8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-3.33333E-006 L 0.03542 0.1051 E">
                                      <p:cBhvr>
                                        <p:cTn id="179" dur="2000" fill="hold"/>
                                        <p:tgtEl>
                                          <p:spTgt spid="2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0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4.81481E-006 L -0.02344 0.09445 E">
                                      <p:cBhvr>
                                        <p:cTn id="181" dur="2000" fill="hold"/>
                                        <p:tgtEl>
                                          <p:spTgt spid="2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2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3.33333E-006 L -0.03541 0.1051 E">
                                      <p:cBhvr>
                                        <p:cTn id="183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Oval 4"/>
          <p:cNvSpPr/>
          <p:nvPr/>
        </p:nvSpPr>
        <p:spPr>
          <a:xfrm>
            <a:off x="2340000" y="2276640"/>
            <a:ext cx="1871640" cy="28080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Oval 5"/>
          <p:cNvSpPr/>
          <p:nvPr/>
        </p:nvSpPr>
        <p:spPr>
          <a:xfrm>
            <a:off x="2843280" y="2781360"/>
            <a:ext cx="863640" cy="158436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Arc 6"/>
          <p:cNvSpPr/>
          <p:nvPr/>
        </p:nvSpPr>
        <p:spPr>
          <a:xfrm flipH="1" flipV="1">
            <a:off x="2410560" y="1439280"/>
            <a:ext cx="576360" cy="982440"/>
          </a:xfrm>
          <a:custGeom>
            <a:avLst/>
            <a:gdLst>
              <a:gd name="textAreaLeft" fmla="*/ -360 w 576360"/>
              <a:gd name="textAreaRight" fmla="*/ 576360 w 576360"/>
              <a:gd name="textAreaTop" fmla="*/ -360 h 982440"/>
              <a:gd name="textAreaBottom" fmla="*/ 982440 h 982440"/>
            </a:gdLst>
            <a:ahLst/>
            <a:rect l="textAreaLeft" t="textAreaTop" r="textAreaRight" b="textAreaBottom"/>
            <a:pathLst>
              <a:path fill="none" w="21600" h="27791">
                <a:moveTo>
                  <a:pt x="7230" y="-1"/>
                </a:moveTo>
                <a:cubicBezTo>
                  <a:pt x="15844" y="3060"/>
                  <a:pt x="21600" y="11211"/>
                  <a:pt x="21600" y="20354"/>
                </a:cubicBezTo>
                <a:cubicBezTo>
                  <a:pt x="21600" y="22891"/>
                  <a:pt x="21152" y="25408"/>
                  <a:pt x="20279" y="27791"/>
                </a:cubicBezTo>
              </a:path>
              <a:path stroke="0" w="21600" h="27791">
                <a:moveTo>
                  <a:pt x="7230" y="-1"/>
                </a:moveTo>
                <a:cubicBezTo>
                  <a:pt x="15844" y="3060"/>
                  <a:pt x="21600" y="11211"/>
                  <a:pt x="21600" y="20354"/>
                </a:cubicBezTo>
                <a:cubicBezTo>
                  <a:pt x="21600" y="22891"/>
                  <a:pt x="21152" y="25408"/>
                  <a:pt x="20279" y="27791"/>
                </a:cubicBezTo>
                <a:lnTo>
                  <a:pt x="0" y="20354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Arc 7"/>
          <p:cNvSpPr/>
          <p:nvPr/>
        </p:nvSpPr>
        <p:spPr>
          <a:xfrm flipH="1" flipV="1">
            <a:off x="1908000" y="1772640"/>
            <a:ext cx="741600" cy="787320"/>
          </a:xfrm>
          <a:custGeom>
            <a:avLst/>
            <a:gdLst>
              <a:gd name="textAreaLeft" fmla="*/ 360 w 741600"/>
              <a:gd name="textAreaRight" fmla="*/ 742320 w 741600"/>
              <a:gd name="textAreaTop" fmla="*/ -360 h 787320"/>
              <a:gd name="textAreaBottom" fmla="*/ 787320 h 787320"/>
            </a:gdLst>
            <a:ahLst/>
            <a:rect l="textAreaLeft" t="textAreaTop" r="textAreaRight" b="textAreaBottom"/>
            <a:pathLst>
              <a:path fill="none" w="21600" h="32425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5401"/>
                  <a:pt x="20596" y="29135"/>
                  <a:pt x="18691" y="32424"/>
                </a:cubicBezTo>
              </a:path>
              <a:path stroke="0" w="21600" h="32425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5401"/>
                  <a:pt x="20596" y="29135"/>
                  <a:pt x="18691" y="32424"/>
                </a:cubicBezTo>
                <a:lnTo>
                  <a:pt x="0" y="2160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Arc 8"/>
          <p:cNvSpPr/>
          <p:nvPr/>
        </p:nvSpPr>
        <p:spPr>
          <a:xfrm flipH="1" flipV="1">
            <a:off x="1476360" y="2348640"/>
            <a:ext cx="960480" cy="569880"/>
          </a:xfrm>
          <a:custGeom>
            <a:avLst/>
            <a:gdLst>
              <a:gd name="textAreaLeft" fmla="*/ 360 w 960480"/>
              <a:gd name="textAreaRight" fmla="*/ 961200 w 960480"/>
              <a:gd name="textAreaTop" fmla="*/ -360 h 569880"/>
              <a:gd name="textAreaBottom" fmla="*/ 569880 h 569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Oval 9"/>
          <p:cNvSpPr/>
          <p:nvPr/>
        </p:nvSpPr>
        <p:spPr>
          <a:xfrm>
            <a:off x="3203640" y="3284640"/>
            <a:ext cx="216000" cy="57600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Arc 10"/>
          <p:cNvSpPr/>
          <p:nvPr/>
        </p:nvSpPr>
        <p:spPr>
          <a:xfrm flipV="1">
            <a:off x="6443640" y="1341360"/>
            <a:ext cx="528840" cy="1008000"/>
          </a:xfrm>
          <a:custGeom>
            <a:avLst/>
            <a:gdLst>
              <a:gd name="textAreaLeft" fmla="*/ 0 w 528840"/>
              <a:gd name="textAreaRight" fmla="*/ 528840 w 528840"/>
              <a:gd name="textAreaTop" fmla="*/ 360 h 1008000"/>
              <a:gd name="textAreaBottom" fmla="*/ 1008720 h 100800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Arc 11"/>
          <p:cNvSpPr/>
          <p:nvPr/>
        </p:nvSpPr>
        <p:spPr>
          <a:xfrm flipV="1">
            <a:off x="6588000" y="1557360"/>
            <a:ext cx="793800" cy="1008000"/>
          </a:xfrm>
          <a:custGeom>
            <a:avLst/>
            <a:gdLst>
              <a:gd name="textAreaLeft" fmla="*/ 0 w 793800"/>
              <a:gd name="textAreaRight" fmla="*/ 794160 w 793800"/>
              <a:gd name="textAreaTop" fmla="*/ 360 h 1008000"/>
              <a:gd name="textAreaBottom" fmla="*/ 1008720 h 1008000"/>
            </a:gdLst>
            <a:ahLst/>
            <a:rect l="textAreaLeft" t="textAreaTop" r="textAreaRight" b="textAreaBottom"/>
            <a:pathLst>
              <a:path fill="none" w="30446" h="21600">
                <a:moveTo>
                  <a:pt x="0" y="1951"/>
                </a:moveTo>
                <a:cubicBezTo>
                  <a:pt x="2815" y="665"/>
                  <a:pt x="5875" y="-1"/>
                  <a:pt x="8971" y="0"/>
                </a:cubicBezTo>
                <a:cubicBezTo>
                  <a:pt x="20001" y="0"/>
                  <a:pt x="29260" y="8311"/>
                  <a:pt x="30445" y="19279"/>
                </a:cubicBezTo>
              </a:path>
              <a:path stroke="0" w="30446" h="21600">
                <a:moveTo>
                  <a:pt x="0" y="1951"/>
                </a:moveTo>
                <a:cubicBezTo>
                  <a:pt x="2815" y="665"/>
                  <a:pt x="5875" y="-1"/>
                  <a:pt x="8971" y="0"/>
                </a:cubicBezTo>
                <a:cubicBezTo>
                  <a:pt x="20001" y="0"/>
                  <a:pt x="29260" y="8311"/>
                  <a:pt x="30445" y="19279"/>
                </a:cubicBezTo>
                <a:lnTo>
                  <a:pt x="8971" y="2160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Arc 12"/>
          <p:cNvSpPr/>
          <p:nvPr/>
        </p:nvSpPr>
        <p:spPr>
          <a:xfrm flipV="1">
            <a:off x="6877080" y="1844640"/>
            <a:ext cx="1008000" cy="936720"/>
          </a:xfrm>
          <a:custGeom>
            <a:avLst/>
            <a:gdLst>
              <a:gd name="textAreaLeft" fmla="*/ 0 w 1008000"/>
              <a:gd name="textAreaRight" fmla="*/ 1008360 w 1008000"/>
              <a:gd name="textAreaTop" fmla="*/ 360 h 936720"/>
              <a:gd name="textAreaBottom" fmla="*/ 937440 h 936720"/>
            </a:gdLst>
            <a:ahLst/>
            <a:rect l="textAreaLeft" t="textAreaTop" r="textAreaRight" b="textAreaBottom"/>
            <a:pathLst>
              <a:path fill="none" w="21364" h="21600">
                <a:moveTo>
                  <a:pt x="-1" y="0"/>
                </a:moveTo>
                <a:cubicBezTo>
                  <a:pt x="10698" y="0"/>
                  <a:pt x="19785" y="7831"/>
                  <a:pt x="21363" y="18413"/>
                </a:cubicBezTo>
              </a:path>
              <a:path stroke="0" w="21364" h="21600">
                <a:moveTo>
                  <a:pt x="-1" y="0"/>
                </a:moveTo>
                <a:cubicBezTo>
                  <a:pt x="10698" y="0"/>
                  <a:pt x="19785" y="7831"/>
                  <a:pt x="21363" y="18413"/>
                </a:cubicBezTo>
                <a:lnTo>
                  <a:pt x="0" y="2160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l 13"/>
          <p:cNvSpPr/>
          <p:nvPr/>
        </p:nvSpPr>
        <p:spPr>
          <a:xfrm>
            <a:off x="5219640" y="2276640"/>
            <a:ext cx="1871640" cy="28080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Oval 14"/>
          <p:cNvSpPr/>
          <p:nvPr/>
        </p:nvSpPr>
        <p:spPr>
          <a:xfrm>
            <a:off x="5722920" y="2781360"/>
            <a:ext cx="863640" cy="158436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Oval 15"/>
          <p:cNvSpPr/>
          <p:nvPr/>
        </p:nvSpPr>
        <p:spPr>
          <a:xfrm>
            <a:off x="6083280" y="3284640"/>
            <a:ext cx="216000" cy="57600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9" dur="1000" fill="hold"/>
                                        <p:tgtEl>
                                          <p:spTgt spid="25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90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1" dur="1000" fill="hold"/>
                                        <p:tgtEl>
                                          <p:spTgt spid="25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9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3" dur="1000" fill="hold"/>
                                        <p:tgtEl>
                                          <p:spTgt spid="26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9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5" dur="1000" fill="hold"/>
                                        <p:tgtEl>
                                          <p:spTgt spid="26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Oval 4"/>
          <p:cNvSpPr/>
          <p:nvPr/>
        </p:nvSpPr>
        <p:spPr>
          <a:xfrm>
            <a:off x="2340000" y="2276640"/>
            <a:ext cx="1871640" cy="28080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Oval 5"/>
          <p:cNvSpPr/>
          <p:nvPr/>
        </p:nvSpPr>
        <p:spPr>
          <a:xfrm>
            <a:off x="2843280" y="2781360"/>
            <a:ext cx="863640" cy="158436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Arc 6"/>
          <p:cNvSpPr/>
          <p:nvPr/>
        </p:nvSpPr>
        <p:spPr>
          <a:xfrm flipH="1" flipV="1">
            <a:off x="2410560" y="1439280"/>
            <a:ext cx="576360" cy="982440"/>
          </a:xfrm>
          <a:custGeom>
            <a:avLst/>
            <a:gdLst>
              <a:gd name="textAreaLeft" fmla="*/ -360 w 576360"/>
              <a:gd name="textAreaRight" fmla="*/ 576360 w 576360"/>
              <a:gd name="textAreaTop" fmla="*/ -360 h 982440"/>
              <a:gd name="textAreaBottom" fmla="*/ 982440 h 982440"/>
            </a:gdLst>
            <a:ahLst/>
            <a:rect l="textAreaLeft" t="textAreaTop" r="textAreaRight" b="textAreaBottom"/>
            <a:pathLst>
              <a:path fill="none" w="21600" h="27791">
                <a:moveTo>
                  <a:pt x="7230" y="-1"/>
                </a:moveTo>
                <a:cubicBezTo>
                  <a:pt x="15844" y="3060"/>
                  <a:pt x="21600" y="11211"/>
                  <a:pt x="21600" y="20354"/>
                </a:cubicBezTo>
                <a:cubicBezTo>
                  <a:pt x="21600" y="22891"/>
                  <a:pt x="21152" y="25408"/>
                  <a:pt x="20279" y="27791"/>
                </a:cubicBezTo>
              </a:path>
              <a:path stroke="0" w="21600" h="27791">
                <a:moveTo>
                  <a:pt x="7230" y="-1"/>
                </a:moveTo>
                <a:cubicBezTo>
                  <a:pt x="15844" y="3060"/>
                  <a:pt x="21600" y="11211"/>
                  <a:pt x="21600" y="20354"/>
                </a:cubicBezTo>
                <a:cubicBezTo>
                  <a:pt x="21600" y="22891"/>
                  <a:pt x="21152" y="25408"/>
                  <a:pt x="20279" y="27791"/>
                </a:cubicBezTo>
                <a:lnTo>
                  <a:pt x="0" y="20354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Arc 7"/>
          <p:cNvSpPr/>
          <p:nvPr/>
        </p:nvSpPr>
        <p:spPr>
          <a:xfrm flipH="1" flipV="1">
            <a:off x="1908000" y="1772640"/>
            <a:ext cx="741600" cy="787320"/>
          </a:xfrm>
          <a:custGeom>
            <a:avLst/>
            <a:gdLst>
              <a:gd name="textAreaLeft" fmla="*/ 360 w 741600"/>
              <a:gd name="textAreaRight" fmla="*/ 742320 w 741600"/>
              <a:gd name="textAreaTop" fmla="*/ -360 h 787320"/>
              <a:gd name="textAreaBottom" fmla="*/ 787320 h 787320"/>
            </a:gdLst>
            <a:ahLst/>
            <a:rect l="textAreaLeft" t="textAreaTop" r="textAreaRight" b="textAreaBottom"/>
            <a:pathLst>
              <a:path fill="none" w="21600" h="32425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5401"/>
                  <a:pt x="20596" y="29135"/>
                  <a:pt x="18691" y="32424"/>
                </a:cubicBezTo>
              </a:path>
              <a:path stroke="0" w="21600" h="32425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5401"/>
                  <a:pt x="20596" y="29135"/>
                  <a:pt x="18691" y="32424"/>
                </a:cubicBezTo>
                <a:lnTo>
                  <a:pt x="0" y="2160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Arc 8"/>
          <p:cNvSpPr/>
          <p:nvPr/>
        </p:nvSpPr>
        <p:spPr>
          <a:xfrm flipH="1" flipV="1">
            <a:off x="1476360" y="2348640"/>
            <a:ext cx="960480" cy="569880"/>
          </a:xfrm>
          <a:custGeom>
            <a:avLst/>
            <a:gdLst>
              <a:gd name="textAreaLeft" fmla="*/ 360 w 960480"/>
              <a:gd name="textAreaRight" fmla="*/ 961200 w 960480"/>
              <a:gd name="textAreaTop" fmla="*/ -360 h 569880"/>
              <a:gd name="textAreaBottom" fmla="*/ 569880 h 569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Oval 9"/>
          <p:cNvSpPr/>
          <p:nvPr/>
        </p:nvSpPr>
        <p:spPr>
          <a:xfrm>
            <a:off x="3203640" y="3284640"/>
            <a:ext cx="216000" cy="57600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Arc 10"/>
          <p:cNvSpPr/>
          <p:nvPr/>
        </p:nvSpPr>
        <p:spPr>
          <a:xfrm flipV="1">
            <a:off x="6443640" y="1341360"/>
            <a:ext cx="528840" cy="1008000"/>
          </a:xfrm>
          <a:custGeom>
            <a:avLst/>
            <a:gdLst>
              <a:gd name="textAreaLeft" fmla="*/ 0 w 528840"/>
              <a:gd name="textAreaRight" fmla="*/ 528840 w 528840"/>
              <a:gd name="textAreaTop" fmla="*/ 360 h 1008000"/>
              <a:gd name="textAreaBottom" fmla="*/ 1008720 h 100800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Arc 11"/>
          <p:cNvSpPr/>
          <p:nvPr/>
        </p:nvSpPr>
        <p:spPr>
          <a:xfrm flipV="1">
            <a:off x="6588000" y="1557360"/>
            <a:ext cx="793800" cy="1008000"/>
          </a:xfrm>
          <a:custGeom>
            <a:avLst/>
            <a:gdLst>
              <a:gd name="textAreaLeft" fmla="*/ 0 w 793800"/>
              <a:gd name="textAreaRight" fmla="*/ 794160 w 793800"/>
              <a:gd name="textAreaTop" fmla="*/ 360 h 1008000"/>
              <a:gd name="textAreaBottom" fmla="*/ 1008720 h 1008000"/>
            </a:gdLst>
            <a:ahLst/>
            <a:rect l="textAreaLeft" t="textAreaTop" r="textAreaRight" b="textAreaBottom"/>
            <a:pathLst>
              <a:path fill="none" w="30446" h="21600">
                <a:moveTo>
                  <a:pt x="0" y="1951"/>
                </a:moveTo>
                <a:cubicBezTo>
                  <a:pt x="2815" y="665"/>
                  <a:pt x="5875" y="-1"/>
                  <a:pt x="8971" y="0"/>
                </a:cubicBezTo>
                <a:cubicBezTo>
                  <a:pt x="20001" y="0"/>
                  <a:pt x="29260" y="8311"/>
                  <a:pt x="30445" y="19279"/>
                </a:cubicBezTo>
              </a:path>
              <a:path stroke="0" w="30446" h="21600">
                <a:moveTo>
                  <a:pt x="0" y="1951"/>
                </a:moveTo>
                <a:cubicBezTo>
                  <a:pt x="2815" y="665"/>
                  <a:pt x="5875" y="-1"/>
                  <a:pt x="8971" y="0"/>
                </a:cubicBezTo>
                <a:cubicBezTo>
                  <a:pt x="20001" y="0"/>
                  <a:pt x="29260" y="8311"/>
                  <a:pt x="30445" y="19279"/>
                </a:cubicBezTo>
                <a:lnTo>
                  <a:pt x="8971" y="2160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Arc 12"/>
          <p:cNvSpPr/>
          <p:nvPr/>
        </p:nvSpPr>
        <p:spPr>
          <a:xfrm flipV="1">
            <a:off x="6877080" y="1844640"/>
            <a:ext cx="1008000" cy="936720"/>
          </a:xfrm>
          <a:custGeom>
            <a:avLst/>
            <a:gdLst>
              <a:gd name="textAreaLeft" fmla="*/ 0 w 1008000"/>
              <a:gd name="textAreaRight" fmla="*/ 1008360 w 1008000"/>
              <a:gd name="textAreaTop" fmla="*/ 360 h 936720"/>
              <a:gd name="textAreaBottom" fmla="*/ 937440 h 936720"/>
            </a:gdLst>
            <a:ahLst/>
            <a:rect l="textAreaLeft" t="textAreaTop" r="textAreaRight" b="textAreaBottom"/>
            <a:pathLst>
              <a:path fill="none" w="21364" h="21600">
                <a:moveTo>
                  <a:pt x="-1" y="0"/>
                </a:moveTo>
                <a:cubicBezTo>
                  <a:pt x="10698" y="0"/>
                  <a:pt x="19785" y="7831"/>
                  <a:pt x="21363" y="18413"/>
                </a:cubicBezTo>
              </a:path>
              <a:path stroke="0" w="21364" h="21600">
                <a:moveTo>
                  <a:pt x="-1" y="0"/>
                </a:moveTo>
                <a:cubicBezTo>
                  <a:pt x="10698" y="0"/>
                  <a:pt x="19785" y="7831"/>
                  <a:pt x="21363" y="18413"/>
                </a:cubicBezTo>
                <a:lnTo>
                  <a:pt x="0" y="2160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Oval 13"/>
          <p:cNvSpPr/>
          <p:nvPr/>
        </p:nvSpPr>
        <p:spPr>
          <a:xfrm>
            <a:off x="5219640" y="2276640"/>
            <a:ext cx="1871640" cy="28080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Oval 14"/>
          <p:cNvSpPr/>
          <p:nvPr/>
        </p:nvSpPr>
        <p:spPr>
          <a:xfrm>
            <a:off x="5722920" y="2781360"/>
            <a:ext cx="863640" cy="158436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Oval 15"/>
          <p:cNvSpPr/>
          <p:nvPr/>
        </p:nvSpPr>
        <p:spPr>
          <a:xfrm>
            <a:off x="6083280" y="3284640"/>
            <a:ext cx="216000" cy="57600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1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3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4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5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7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1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3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5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6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7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21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2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23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4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25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6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27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1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2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3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4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5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6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7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41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2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43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4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45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6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47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4"/>
          <p:cNvSpPr/>
          <p:nvPr/>
        </p:nvSpPr>
        <p:spPr>
          <a:xfrm>
            <a:off x="2340000" y="2276640"/>
            <a:ext cx="1871640" cy="28080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5"/>
          <p:cNvSpPr/>
          <p:nvPr/>
        </p:nvSpPr>
        <p:spPr>
          <a:xfrm>
            <a:off x="2340000" y="2781360"/>
            <a:ext cx="863640" cy="158436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rc 6"/>
          <p:cNvSpPr/>
          <p:nvPr/>
        </p:nvSpPr>
        <p:spPr>
          <a:xfrm flipH="1" flipV="1">
            <a:off x="2410560" y="1439280"/>
            <a:ext cx="576360" cy="982440"/>
          </a:xfrm>
          <a:custGeom>
            <a:avLst/>
            <a:gdLst>
              <a:gd name="textAreaLeft" fmla="*/ -360 w 576360"/>
              <a:gd name="textAreaRight" fmla="*/ 576360 w 576360"/>
              <a:gd name="textAreaTop" fmla="*/ -360 h 982440"/>
              <a:gd name="textAreaBottom" fmla="*/ 982440 h 982440"/>
            </a:gdLst>
            <a:ahLst/>
            <a:rect l="textAreaLeft" t="textAreaTop" r="textAreaRight" b="textAreaBottom"/>
            <a:pathLst>
              <a:path fill="none" w="21600" h="27791">
                <a:moveTo>
                  <a:pt x="7230" y="-1"/>
                </a:moveTo>
                <a:cubicBezTo>
                  <a:pt x="15844" y="3060"/>
                  <a:pt x="21600" y="11211"/>
                  <a:pt x="21600" y="20354"/>
                </a:cubicBezTo>
                <a:cubicBezTo>
                  <a:pt x="21600" y="22891"/>
                  <a:pt x="21152" y="25408"/>
                  <a:pt x="20279" y="27791"/>
                </a:cubicBezTo>
              </a:path>
              <a:path stroke="0" w="21600" h="27791">
                <a:moveTo>
                  <a:pt x="7230" y="-1"/>
                </a:moveTo>
                <a:cubicBezTo>
                  <a:pt x="15844" y="3060"/>
                  <a:pt x="21600" y="11211"/>
                  <a:pt x="21600" y="20354"/>
                </a:cubicBezTo>
                <a:cubicBezTo>
                  <a:pt x="21600" y="22891"/>
                  <a:pt x="21152" y="25408"/>
                  <a:pt x="20279" y="27791"/>
                </a:cubicBezTo>
                <a:lnTo>
                  <a:pt x="0" y="20354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rc 7"/>
          <p:cNvSpPr/>
          <p:nvPr/>
        </p:nvSpPr>
        <p:spPr>
          <a:xfrm flipH="1" flipV="1">
            <a:off x="1908000" y="1772640"/>
            <a:ext cx="741600" cy="787320"/>
          </a:xfrm>
          <a:custGeom>
            <a:avLst/>
            <a:gdLst>
              <a:gd name="textAreaLeft" fmla="*/ 360 w 741600"/>
              <a:gd name="textAreaRight" fmla="*/ 742320 w 741600"/>
              <a:gd name="textAreaTop" fmla="*/ -360 h 787320"/>
              <a:gd name="textAreaBottom" fmla="*/ 787320 h 787320"/>
            </a:gdLst>
            <a:ahLst/>
            <a:rect l="textAreaLeft" t="textAreaTop" r="textAreaRight" b="textAreaBottom"/>
            <a:pathLst>
              <a:path fill="none" w="21600" h="32425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5401"/>
                  <a:pt x="20596" y="29135"/>
                  <a:pt x="18691" y="32424"/>
                </a:cubicBezTo>
              </a:path>
              <a:path stroke="0" w="21600" h="32425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5401"/>
                  <a:pt x="20596" y="29135"/>
                  <a:pt x="18691" y="32424"/>
                </a:cubicBezTo>
                <a:lnTo>
                  <a:pt x="0" y="2160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rc 8"/>
          <p:cNvSpPr/>
          <p:nvPr/>
        </p:nvSpPr>
        <p:spPr>
          <a:xfrm flipH="1" flipV="1">
            <a:off x="1476360" y="2348640"/>
            <a:ext cx="960480" cy="569880"/>
          </a:xfrm>
          <a:custGeom>
            <a:avLst/>
            <a:gdLst>
              <a:gd name="textAreaLeft" fmla="*/ 360 w 960480"/>
              <a:gd name="textAreaRight" fmla="*/ 961200 w 960480"/>
              <a:gd name="textAreaTop" fmla="*/ -360 h 569880"/>
              <a:gd name="textAreaBottom" fmla="*/ 569880 h 569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Oval 9"/>
          <p:cNvSpPr/>
          <p:nvPr/>
        </p:nvSpPr>
        <p:spPr>
          <a:xfrm>
            <a:off x="2700360" y="3284640"/>
            <a:ext cx="216000" cy="57600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rc 10"/>
          <p:cNvSpPr/>
          <p:nvPr/>
        </p:nvSpPr>
        <p:spPr>
          <a:xfrm flipV="1">
            <a:off x="6443640" y="1341360"/>
            <a:ext cx="528840" cy="1008000"/>
          </a:xfrm>
          <a:custGeom>
            <a:avLst/>
            <a:gdLst>
              <a:gd name="textAreaLeft" fmla="*/ 0 w 528840"/>
              <a:gd name="textAreaRight" fmla="*/ 528840 w 528840"/>
              <a:gd name="textAreaTop" fmla="*/ 360 h 1008000"/>
              <a:gd name="textAreaBottom" fmla="*/ 1008720 h 100800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rc 11"/>
          <p:cNvSpPr/>
          <p:nvPr/>
        </p:nvSpPr>
        <p:spPr>
          <a:xfrm flipV="1">
            <a:off x="6588000" y="1557360"/>
            <a:ext cx="793800" cy="1008000"/>
          </a:xfrm>
          <a:custGeom>
            <a:avLst/>
            <a:gdLst>
              <a:gd name="textAreaLeft" fmla="*/ 0 w 793800"/>
              <a:gd name="textAreaRight" fmla="*/ 794160 w 793800"/>
              <a:gd name="textAreaTop" fmla="*/ 360 h 1008000"/>
              <a:gd name="textAreaBottom" fmla="*/ 1008720 h 1008000"/>
            </a:gdLst>
            <a:ahLst/>
            <a:rect l="textAreaLeft" t="textAreaTop" r="textAreaRight" b="textAreaBottom"/>
            <a:pathLst>
              <a:path fill="none" w="30446" h="21600">
                <a:moveTo>
                  <a:pt x="0" y="1951"/>
                </a:moveTo>
                <a:cubicBezTo>
                  <a:pt x="2815" y="665"/>
                  <a:pt x="5875" y="-1"/>
                  <a:pt x="8971" y="0"/>
                </a:cubicBezTo>
                <a:cubicBezTo>
                  <a:pt x="20001" y="0"/>
                  <a:pt x="29260" y="8311"/>
                  <a:pt x="30445" y="19279"/>
                </a:cubicBezTo>
              </a:path>
              <a:path stroke="0" w="30446" h="21600">
                <a:moveTo>
                  <a:pt x="0" y="1951"/>
                </a:moveTo>
                <a:cubicBezTo>
                  <a:pt x="2815" y="665"/>
                  <a:pt x="5875" y="-1"/>
                  <a:pt x="8971" y="0"/>
                </a:cubicBezTo>
                <a:cubicBezTo>
                  <a:pt x="20001" y="0"/>
                  <a:pt x="29260" y="8311"/>
                  <a:pt x="30445" y="19279"/>
                </a:cubicBezTo>
                <a:lnTo>
                  <a:pt x="8971" y="2160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rc 12"/>
          <p:cNvSpPr/>
          <p:nvPr/>
        </p:nvSpPr>
        <p:spPr>
          <a:xfrm flipV="1">
            <a:off x="6877080" y="1844640"/>
            <a:ext cx="1008000" cy="936720"/>
          </a:xfrm>
          <a:custGeom>
            <a:avLst/>
            <a:gdLst>
              <a:gd name="textAreaLeft" fmla="*/ 0 w 1008000"/>
              <a:gd name="textAreaRight" fmla="*/ 1008360 w 1008000"/>
              <a:gd name="textAreaTop" fmla="*/ 360 h 936720"/>
              <a:gd name="textAreaBottom" fmla="*/ 937440 h 936720"/>
            </a:gdLst>
            <a:ahLst/>
            <a:rect l="textAreaLeft" t="textAreaTop" r="textAreaRight" b="textAreaBottom"/>
            <a:pathLst>
              <a:path fill="none" w="21364" h="21600">
                <a:moveTo>
                  <a:pt x="-1" y="0"/>
                </a:moveTo>
                <a:cubicBezTo>
                  <a:pt x="10698" y="0"/>
                  <a:pt x="19785" y="7831"/>
                  <a:pt x="21363" y="18413"/>
                </a:cubicBezTo>
              </a:path>
              <a:path stroke="0" w="21364" h="21600">
                <a:moveTo>
                  <a:pt x="-1" y="0"/>
                </a:moveTo>
                <a:cubicBezTo>
                  <a:pt x="10698" y="0"/>
                  <a:pt x="19785" y="7831"/>
                  <a:pt x="21363" y="18413"/>
                </a:cubicBezTo>
                <a:lnTo>
                  <a:pt x="0" y="2160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13"/>
          <p:cNvSpPr/>
          <p:nvPr/>
        </p:nvSpPr>
        <p:spPr>
          <a:xfrm>
            <a:off x="5219640" y="2276640"/>
            <a:ext cx="1871640" cy="28080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 14"/>
          <p:cNvSpPr/>
          <p:nvPr/>
        </p:nvSpPr>
        <p:spPr>
          <a:xfrm>
            <a:off x="5219640" y="2781360"/>
            <a:ext cx="863640" cy="158436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Oval 15"/>
          <p:cNvSpPr/>
          <p:nvPr/>
        </p:nvSpPr>
        <p:spPr>
          <a:xfrm>
            <a:off x="5580000" y="3284640"/>
            <a:ext cx="216000" cy="57600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-9.57004E-007 L 0.10625 0.00023 E">
                                      <p:cBhvr>
                                        <p:cTn id="21" dur="200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11743E-006 L 0.11025 -2.11743E-006 E">
                                      <p:cBhvr>
                                        <p:cTn id="23" dur="2000" fill="hold"/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2.11743E-006 L 0.11024 -2.11743E-006 E">
                                      <p:cBhvr>
                                        <p:cTn id="25" dur="200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99 0.00023 L 0.11024 0.00046 E">
                                      <p:cBhvr>
                                        <p:cTn id="27" dur="2000" fill="hold"/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Oval 4"/>
          <p:cNvSpPr/>
          <p:nvPr/>
        </p:nvSpPr>
        <p:spPr>
          <a:xfrm>
            <a:off x="2340000" y="2276640"/>
            <a:ext cx="1871640" cy="28080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Oval 5"/>
          <p:cNvSpPr/>
          <p:nvPr/>
        </p:nvSpPr>
        <p:spPr>
          <a:xfrm>
            <a:off x="2843280" y="2781360"/>
            <a:ext cx="863640" cy="158436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rc 6"/>
          <p:cNvSpPr/>
          <p:nvPr/>
        </p:nvSpPr>
        <p:spPr>
          <a:xfrm flipH="1" flipV="1">
            <a:off x="2410560" y="1439280"/>
            <a:ext cx="576360" cy="982440"/>
          </a:xfrm>
          <a:custGeom>
            <a:avLst/>
            <a:gdLst>
              <a:gd name="textAreaLeft" fmla="*/ -360 w 576360"/>
              <a:gd name="textAreaRight" fmla="*/ 576360 w 576360"/>
              <a:gd name="textAreaTop" fmla="*/ -360 h 982440"/>
              <a:gd name="textAreaBottom" fmla="*/ 982440 h 982440"/>
            </a:gdLst>
            <a:ahLst/>
            <a:rect l="textAreaLeft" t="textAreaTop" r="textAreaRight" b="textAreaBottom"/>
            <a:pathLst>
              <a:path fill="none" w="21600" h="27791">
                <a:moveTo>
                  <a:pt x="7230" y="-1"/>
                </a:moveTo>
                <a:cubicBezTo>
                  <a:pt x="15844" y="3060"/>
                  <a:pt x="21600" y="11211"/>
                  <a:pt x="21600" y="20354"/>
                </a:cubicBezTo>
                <a:cubicBezTo>
                  <a:pt x="21600" y="22891"/>
                  <a:pt x="21152" y="25408"/>
                  <a:pt x="20279" y="27791"/>
                </a:cubicBezTo>
              </a:path>
              <a:path stroke="0" w="21600" h="27791">
                <a:moveTo>
                  <a:pt x="7230" y="-1"/>
                </a:moveTo>
                <a:cubicBezTo>
                  <a:pt x="15844" y="3060"/>
                  <a:pt x="21600" y="11211"/>
                  <a:pt x="21600" y="20354"/>
                </a:cubicBezTo>
                <a:cubicBezTo>
                  <a:pt x="21600" y="22891"/>
                  <a:pt x="21152" y="25408"/>
                  <a:pt x="20279" y="27791"/>
                </a:cubicBezTo>
                <a:lnTo>
                  <a:pt x="0" y="20354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rc 7"/>
          <p:cNvSpPr/>
          <p:nvPr/>
        </p:nvSpPr>
        <p:spPr>
          <a:xfrm flipH="1" flipV="1">
            <a:off x="1908000" y="1772640"/>
            <a:ext cx="741600" cy="787320"/>
          </a:xfrm>
          <a:custGeom>
            <a:avLst/>
            <a:gdLst>
              <a:gd name="textAreaLeft" fmla="*/ 360 w 741600"/>
              <a:gd name="textAreaRight" fmla="*/ 742320 w 741600"/>
              <a:gd name="textAreaTop" fmla="*/ -360 h 787320"/>
              <a:gd name="textAreaBottom" fmla="*/ 787320 h 787320"/>
            </a:gdLst>
            <a:ahLst/>
            <a:rect l="textAreaLeft" t="textAreaTop" r="textAreaRight" b="textAreaBottom"/>
            <a:pathLst>
              <a:path fill="none" w="21600" h="32425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5401"/>
                  <a:pt x="20596" y="29135"/>
                  <a:pt x="18691" y="32424"/>
                </a:cubicBezTo>
              </a:path>
              <a:path stroke="0" w="21600" h="32425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5401"/>
                  <a:pt x="20596" y="29135"/>
                  <a:pt x="18691" y="32424"/>
                </a:cubicBezTo>
                <a:lnTo>
                  <a:pt x="0" y="2160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rc 8"/>
          <p:cNvSpPr/>
          <p:nvPr/>
        </p:nvSpPr>
        <p:spPr>
          <a:xfrm flipH="1" flipV="1">
            <a:off x="1476360" y="2348640"/>
            <a:ext cx="960480" cy="569880"/>
          </a:xfrm>
          <a:custGeom>
            <a:avLst/>
            <a:gdLst>
              <a:gd name="textAreaLeft" fmla="*/ 360 w 960480"/>
              <a:gd name="textAreaRight" fmla="*/ 961200 w 960480"/>
              <a:gd name="textAreaTop" fmla="*/ -360 h 569880"/>
              <a:gd name="textAreaBottom" fmla="*/ 569880 h 569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Oval 9"/>
          <p:cNvSpPr/>
          <p:nvPr/>
        </p:nvSpPr>
        <p:spPr>
          <a:xfrm>
            <a:off x="3203640" y="3284640"/>
            <a:ext cx="216000" cy="57600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rc 10"/>
          <p:cNvSpPr/>
          <p:nvPr/>
        </p:nvSpPr>
        <p:spPr>
          <a:xfrm flipV="1">
            <a:off x="6443640" y="1341360"/>
            <a:ext cx="528840" cy="1008000"/>
          </a:xfrm>
          <a:custGeom>
            <a:avLst/>
            <a:gdLst>
              <a:gd name="textAreaLeft" fmla="*/ 0 w 528840"/>
              <a:gd name="textAreaRight" fmla="*/ 528840 w 528840"/>
              <a:gd name="textAreaTop" fmla="*/ 360 h 1008000"/>
              <a:gd name="textAreaBottom" fmla="*/ 1008720 h 100800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rc 11"/>
          <p:cNvSpPr/>
          <p:nvPr/>
        </p:nvSpPr>
        <p:spPr>
          <a:xfrm flipV="1">
            <a:off x="6588000" y="1557360"/>
            <a:ext cx="793800" cy="1008000"/>
          </a:xfrm>
          <a:custGeom>
            <a:avLst/>
            <a:gdLst>
              <a:gd name="textAreaLeft" fmla="*/ 0 w 793800"/>
              <a:gd name="textAreaRight" fmla="*/ 794160 w 793800"/>
              <a:gd name="textAreaTop" fmla="*/ 360 h 1008000"/>
              <a:gd name="textAreaBottom" fmla="*/ 1008720 h 1008000"/>
            </a:gdLst>
            <a:ahLst/>
            <a:rect l="textAreaLeft" t="textAreaTop" r="textAreaRight" b="textAreaBottom"/>
            <a:pathLst>
              <a:path fill="none" w="30446" h="21600">
                <a:moveTo>
                  <a:pt x="0" y="1951"/>
                </a:moveTo>
                <a:cubicBezTo>
                  <a:pt x="2815" y="665"/>
                  <a:pt x="5875" y="-1"/>
                  <a:pt x="8971" y="0"/>
                </a:cubicBezTo>
                <a:cubicBezTo>
                  <a:pt x="20001" y="0"/>
                  <a:pt x="29260" y="8311"/>
                  <a:pt x="30445" y="19279"/>
                </a:cubicBezTo>
              </a:path>
              <a:path stroke="0" w="30446" h="21600">
                <a:moveTo>
                  <a:pt x="0" y="1951"/>
                </a:moveTo>
                <a:cubicBezTo>
                  <a:pt x="2815" y="665"/>
                  <a:pt x="5875" y="-1"/>
                  <a:pt x="8971" y="0"/>
                </a:cubicBezTo>
                <a:cubicBezTo>
                  <a:pt x="20001" y="0"/>
                  <a:pt x="29260" y="8311"/>
                  <a:pt x="30445" y="19279"/>
                </a:cubicBezTo>
                <a:lnTo>
                  <a:pt x="8971" y="2160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rc 12"/>
          <p:cNvSpPr/>
          <p:nvPr/>
        </p:nvSpPr>
        <p:spPr>
          <a:xfrm flipV="1">
            <a:off x="6877080" y="1844640"/>
            <a:ext cx="1008000" cy="936720"/>
          </a:xfrm>
          <a:custGeom>
            <a:avLst/>
            <a:gdLst>
              <a:gd name="textAreaLeft" fmla="*/ 0 w 1008000"/>
              <a:gd name="textAreaRight" fmla="*/ 1008360 w 1008000"/>
              <a:gd name="textAreaTop" fmla="*/ 360 h 936720"/>
              <a:gd name="textAreaBottom" fmla="*/ 937440 h 936720"/>
            </a:gdLst>
            <a:ahLst/>
            <a:rect l="textAreaLeft" t="textAreaTop" r="textAreaRight" b="textAreaBottom"/>
            <a:pathLst>
              <a:path fill="none" w="21364" h="21600">
                <a:moveTo>
                  <a:pt x="-1" y="0"/>
                </a:moveTo>
                <a:cubicBezTo>
                  <a:pt x="10698" y="0"/>
                  <a:pt x="19785" y="7831"/>
                  <a:pt x="21363" y="18413"/>
                </a:cubicBezTo>
              </a:path>
              <a:path stroke="0" w="21364" h="21600">
                <a:moveTo>
                  <a:pt x="-1" y="0"/>
                </a:moveTo>
                <a:cubicBezTo>
                  <a:pt x="10698" y="0"/>
                  <a:pt x="19785" y="7831"/>
                  <a:pt x="21363" y="18413"/>
                </a:cubicBezTo>
                <a:lnTo>
                  <a:pt x="0" y="2160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Oval 13"/>
          <p:cNvSpPr/>
          <p:nvPr/>
        </p:nvSpPr>
        <p:spPr>
          <a:xfrm>
            <a:off x="5219640" y="2276640"/>
            <a:ext cx="1871640" cy="28080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Oval 14"/>
          <p:cNvSpPr/>
          <p:nvPr/>
        </p:nvSpPr>
        <p:spPr>
          <a:xfrm>
            <a:off x="5722920" y="2781360"/>
            <a:ext cx="863640" cy="158436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Oval 15"/>
          <p:cNvSpPr/>
          <p:nvPr/>
        </p:nvSpPr>
        <p:spPr>
          <a:xfrm>
            <a:off x="6083280" y="3284640"/>
            <a:ext cx="216000" cy="57600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-9.57004E-007 L -0.00382 -0.06264 E">
                                      <p:cBhvr>
                                        <p:cTn id="33" dur="2000" fill="hold"/>
                                        <p:tgtEl>
                                          <p:spTgt spid="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2.11743E-006 L 0.00017 -0.06287 E">
                                      <p:cBhvr>
                                        <p:cTn id="35" dur="2000" fill="hold"/>
                                        <p:tgtEl>
                                          <p:spTgt spid="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9.57004E-007 L -0.00382 -0.06264 E">
                                      <p:cBhvr>
                                        <p:cTn id="37" dur="2000" fill="hold"/>
                                        <p:tgtEl>
                                          <p:spTgt spid="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8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2.11743E-006 L 0.00017 -0.06287 E">
                                      <p:cBhvr>
                                        <p:cTn id="39" dur="2000" fill="hold"/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Oval 4"/>
          <p:cNvSpPr/>
          <p:nvPr/>
        </p:nvSpPr>
        <p:spPr>
          <a:xfrm>
            <a:off x="2340000" y="2276640"/>
            <a:ext cx="1871640" cy="28080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Oval 5"/>
          <p:cNvSpPr/>
          <p:nvPr/>
        </p:nvSpPr>
        <p:spPr>
          <a:xfrm>
            <a:off x="2843280" y="2349360"/>
            <a:ext cx="863640" cy="158436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rc 6"/>
          <p:cNvSpPr/>
          <p:nvPr/>
        </p:nvSpPr>
        <p:spPr>
          <a:xfrm flipH="1" flipV="1">
            <a:off x="2410560" y="1439280"/>
            <a:ext cx="576360" cy="982440"/>
          </a:xfrm>
          <a:custGeom>
            <a:avLst/>
            <a:gdLst>
              <a:gd name="textAreaLeft" fmla="*/ -360 w 576360"/>
              <a:gd name="textAreaRight" fmla="*/ 576360 w 576360"/>
              <a:gd name="textAreaTop" fmla="*/ -360 h 982440"/>
              <a:gd name="textAreaBottom" fmla="*/ 982440 h 982440"/>
            </a:gdLst>
            <a:ahLst/>
            <a:rect l="textAreaLeft" t="textAreaTop" r="textAreaRight" b="textAreaBottom"/>
            <a:pathLst>
              <a:path fill="none" w="21600" h="27791">
                <a:moveTo>
                  <a:pt x="7230" y="-1"/>
                </a:moveTo>
                <a:cubicBezTo>
                  <a:pt x="15844" y="3060"/>
                  <a:pt x="21600" y="11211"/>
                  <a:pt x="21600" y="20354"/>
                </a:cubicBezTo>
                <a:cubicBezTo>
                  <a:pt x="21600" y="22891"/>
                  <a:pt x="21152" y="25408"/>
                  <a:pt x="20279" y="27791"/>
                </a:cubicBezTo>
              </a:path>
              <a:path stroke="0" w="21600" h="27791">
                <a:moveTo>
                  <a:pt x="7230" y="-1"/>
                </a:moveTo>
                <a:cubicBezTo>
                  <a:pt x="15844" y="3060"/>
                  <a:pt x="21600" y="11211"/>
                  <a:pt x="21600" y="20354"/>
                </a:cubicBezTo>
                <a:cubicBezTo>
                  <a:pt x="21600" y="22891"/>
                  <a:pt x="21152" y="25408"/>
                  <a:pt x="20279" y="27791"/>
                </a:cubicBezTo>
                <a:lnTo>
                  <a:pt x="0" y="20354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rc 7"/>
          <p:cNvSpPr/>
          <p:nvPr/>
        </p:nvSpPr>
        <p:spPr>
          <a:xfrm flipH="1" flipV="1">
            <a:off x="1908000" y="1772640"/>
            <a:ext cx="741600" cy="787320"/>
          </a:xfrm>
          <a:custGeom>
            <a:avLst/>
            <a:gdLst>
              <a:gd name="textAreaLeft" fmla="*/ 360 w 741600"/>
              <a:gd name="textAreaRight" fmla="*/ 742320 w 741600"/>
              <a:gd name="textAreaTop" fmla="*/ -360 h 787320"/>
              <a:gd name="textAreaBottom" fmla="*/ 787320 h 787320"/>
            </a:gdLst>
            <a:ahLst/>
            <a:rect l="textAreaLeft" t="textAreaTop" r="textAreaRight" b="textAreaBottom"/>
            <a:pathLst>
              <a:path fill="none" w="21600" h="32425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5401"/>
                  <a:pt x="20596" y="29135"/>
                  <a:pt x="18691" y="32424"/>
                </a:cubicBezTo>
              </a:path>
              <a:path stroke="0" w="21600" h="32425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5401"/>
                  <a:pt x="20596" y="29135"/>
                  <a:pt x="18691" y="32424"/>
                </a:cubicBezTo>
                <a:lnTo>
                  <a:pt x="0" y="2160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rc 8"/>
          <p:cNvSpPr/>
          <p:nvPr/>
        </p:nvSpPr>
        <p:spPr>
          <a:xfrm flipH="1" flipV="1">
            <a:off x="1476360" y="2348640"/>
            <a:ext cx="960480" cy="569880"/>
          </a:xfrm>
          <a:custGeom>
            <a:avLst/>
            <a:gdLst>
              <a:gd name="textAreaLeft" fmla="*/ 360 w 960480"/>
              <a:gd name="textAreaRight" fmla="*/ 961200 w 960480"/>
              <a:gd name="textAreaTop" fmla="*/ -360 h 569880"/>
              <a:gd name="textAreaBottom" fmla="*/ 569880 h 569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Oval 9"/>
          <p:cNvSpPr/>
          <p:nvPr/>
        </p:nvSpPr>
        <p:spPr>
          <a:xfrm>
            <a:off x="3132000" y="2852640"/>
            <a:ext cx="216000" cy="57636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rc 10"/>
          <p:cNvSpPr/>
          <p:nvPr/>
        </p:nvSpPr>
        <p:spPr>
          <a:xfrm flipV="1">
            <a:off x="6443640" y="1341360"/>
            <a:ext cx="528840" cy="1008000"/>
          </a:xfrm>
          <a:custGeom>
            <a:avLst/>
            <a:gdLst>
              <a:gd name="textAreaLeft" fmla="*/ 0 w 528840"/>
              <a:gd name="textAreaRight" fmla="*/ 528840 w 528840"/>
              <a:gd name="textAreaTop" fmla="*/ 360 h 1008000"/>
              <a:gd name="textAreaBottom" fmla="*/ 1008720 h 100800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rc 11"/>
          <p:cNvSpPr/>
          <p:nvPr/>
        </p:nvSpPr>
        <p:spPr>
          <a:xfrm flipV="1">
            <a:off x="6588000" y="1557360"/>
            <a:ext cx="793800" cy="1008000"/>
          </a:xfrm>
          <a:custGeom>
            <a:avLst/>
            <a:gdLst>
              <a:gd name="textAreaLeft" fmla="*/ 0 w 793800"/>
              <a:gd name="textAreaRight" fmla="*/ 794160 w 793800"/>
              <a:gd name="textAreaTop" fmla="*/ 360 h 1008000"/>
              <a:gd name="textAreaBottom" fmla="*/ 1008720 h 1008000"/>
            </a:gdLst>
            <a:ahLst/>
            <a:rect l="textAreaLeft" t="textAreaTop" r="textAreaRight" b="textAreaBottom"/>
            <a:pathLst>
              <a:path fill="none" w="30446" h="21600">
                <a:moveTo>
                  <a:pt x="0" y="1951"/>
                </a:moveTo>
                <a:cubicBezTo>
                  <a:pt x="2815" y="665"/>
                  <a:pt x="5875" y="-1"/>
                  <a:pt x="8971" y="0"/>
                </a:cubicBezTo>
                <a:cubicBezTo>
                  <a:pt x="20001" y="0"/>
                  <a:pt x="29260" y="8311"/>
                  <a:pt x="30445" y="19279"/>
                </a:cubicBezTo>
              </a:path>
              <a:path stroke="0" w="30446" h="21600">
                <a:moveTo>
                  <a:pt x="0" y="1951"/>
                </a:moveTo>
                <a:cubicBezTo>
                  <a:pt x="2815" y="665"/>
                  <a:pt x="5875" y="-1"/>
                  <a:pt x="8971" y="0"/>
                </a:cubicBezTo>
                <a:cubicBezTo>
                  <a:pt x="20001" y="0"/>
                  <a:pt x="29260" y="8311"/>
                  <a:pt x="30445" y="19279"/>
                </a:cubicBezTo>
                <a:lnTo>
                  <a:pt x="8971" y="2160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rc 12"/>
          <p:cNvSpPr/>
          <p:nvPr/>
        </p:nvSpPr>
        <p:spPr>
          <a:xfrm flipV="1">
            <a:off x="6877080" y="1844640"/>
            <a:ext cx="1008000" cy="936720"/>
          </a:xfrm>
          <a:custGeom>
            <a:avLst/>
            <a:gdLst>
              <a:gd name="textAreaLeft" fmla="*/ 0 w 1008000"/>
              <a:gd name="textAreaRight" fmla="*/ 1008360 w 1008000"/>
              <a:gd name="textAreaTop" fmla="*/ 360 h 936720"/>
              <a:gd name="textAreaBottom" fmla="*/ 937440 h 936720"/>
            </a:gdLst>
            <a:ahLst/>
            <a:rect l="textAreaLeft" t="textAreaTop" r="textAreaRight" b="textAreaBottom"/>
            <a:pathLst>
              <a:path fill="none" w="21364" h="21600">
                <a:moveTo>
                  <a:pt x="-1" y="0"/>
                </a:moveTo>
                <a:cubicBezTo>
                  <a:pt x="10698" y="0"/>
                  <a:pt x="19785" y="7831"/>
                  <a:pt x="21363" y="18413"/>
                </a:cubicBezTo>
              </a:path>
              <a:path stroke="0" w="21364" h="21600">
                <a:moveTo>
                  <a:pt x="-1" y="0"/>
                </a:moveTo>
                <a:cubicBezTo>
                  <a:pt x="10698" y="0"/>
                  <a:pt x="19785" y="7831"/>
                  <a:pt x="21363" y="18413"/>
                </a:cubicBezTo>
                <a:lnTo>
                  <a:pt x="0" y="2160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val 13"/>
          <p:cNvSpPr/>
          <p:nvPr/>
        </p:nvSpPr>
        <p:spPr>
          <a:xfrm>
            <a:off x="5219640" y="2276640"/>
            <a:ext cx="1871640" cy="28080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Oval 14"/>
          <p:cNvSpPr/>
          <p:nvPr/>
        </p:nvSpPr>
        <p:spPr>
          <a:xfrm>
            <a:off x="5724360" y="2349360"/>
            <a:ext cx="863640" cy="158436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Oval 15"/>
          <p:cNvSpPr/>
          <p:nvPr/>
        </p:nvSpPr>
        <p:spPr>
          <a:xfrm>
            <a:off x="6012000" y="2852640"/>
            <a:ext cx="215640" cy="57636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3.51826E-006 L 0.00017 0.16759 E">
                                      <p:cBhvr>
                                        <p:cTn id="45" dur="2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6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4.67869E-006 L 0.00399 0.16782 E">
                                      <p:cBhvr>
                                        <p:cTn id="47" dur="2000" fill="hold"/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3.51826E-006 L -3.88889E-006 0.16759 E">
                                      <p:cBhvr>
                                        <p:cTn id="49" dur="2000" fill="hold"/>
                                        <p:tgtEl>
                                          <p:spTgt spid="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0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4.67869E-006 L 0.00399 0.16782 E">
                                      <p:cBhvr>
                                        <p:cTn id="51" dur="2000" fill="hold"/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val 4"/>
          <p:cNvSpPr/>
          <p:nvPr/>
        </p:nvSpPr>
        <p:spPr>
          <a:xfrm>
            <a:off x="2340000" y="2276640"/>
            <a:ext cx="1871640" cy="28080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val 5"/>
          <p:cNvSpPr/>
          <p:nvPr/>
        </p:nvSpPr>
        <p:spPr>
          <a:xfrm>
            <a:off x="3348000" y="2781360"/>
            <a:ext cx="863640" cy="158436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rc 6"/>
          <p:cNvSpPr/>
          <p:nvPr/>
        </p:nvSpPr>
        <p:spPr>
          <a:xfrm flipH="1" flipV="1">
            <a:off x="2410560" y="1439280"/>
            <a:ext cx="576360" cy="982440"/>
          </a:xfrm>
          <a:custGeom>
            <a:avLst/>
            <a:gdLst>
              <a:gd name="textAreaLeft" fmla="*/ -360 w 576360"/>
              <a:gd name="textAreaRight" fmla="*/ 576360 w 576360"/>
              <a:gd name="textAreaTop" fmla="*/ -360 h 982440"/>
              <a:gd name="textAreaBottom" fmla="*/ 982440 h 982440"/>
            </a:gdLst>
            <a:ahLst/>
            <a:rect l="textAreaLeft" t="textAreaTop" r="textAreaRight" b="textAreaBottom"/>
            <a:pathLst>
              <a:path fill="none" w="21600" h="27791">
                <a:moveTo>
                  <a:pt x="7230" y="-1"/>
                </a:moveTo>
                <a:cubicBezTo>
                  <a:pt x="15844" y="3060"/>
                  <a:pt x="21600" y="11211"/>
                  <a:pt x="21600" y="20354"/>
                </a:cubicBezTo>
                <a:cubicBezTo>
                  <a:pt x="21600" y="22891"/>
                  <a:pt x="21152" y="25408"/>
                  <a:pt x="20279" y="27791"/>
                </a:cubicBezTo>
              </a:path>
              <a:path stroke="0" w="21600" h="27791">
                <a:moveTo>
                  <a:pt x="7230" y="-1"/>
                </a:moveTo>
                <a:cubicBezTo>
                  <a:pt x="15844" y="3060"/>
                  <a:pt x="21600" y="11211"/>
                  <a:pt x="21600" y="20354"/>
                </a:cubicBezTo>
                <a:cubicBezTo>
                  <a:pt x="21600" y="22891"/>
                  <a:pt x="21152" y="25408"/>
                  <a:pt x="20279" y="27791"/>
                </a:cubicBezTo>
                <a:lnTo>
                  <a:pt x="0" y="20354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rc 7"/>
          <p:cNvSpPr/>
          <p:nvPr/>
        </p:nvSpPr>
        <p:spPr>
          <a:xfrm flipH="1" flipV="1">
            <a:off x="1908000" y="1772640"/>
            <a:ext cx="741600" cy="787320"/>
          </a:xfrm>
          <a:custGeom>
            <a:avLst/>
            <a:gdLst>
              <a:gd name="textAreaLeft" fmla="*/ 360 w 741600"/>
              <a:gd name="textAreaRight" fmla="*/ 742320 w 741600"/>
              <a:gd name="textAreaTop" fmla="*/ -360 h 787320"/>
              <a:gd name="textAreaBottom" fmla="*/ 787320 h 787320"/>
            </a:gdLst>
            <a:ahLst/>
            <a:rect l="textAreaLeft" t="textAreaTop" r="textAreaRight" b="textAreaBottom"/>
            <a:pathLst>
              <a:path fill="none" w="21600" h="32425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5401"/>
                  <a:pt x="20596" y="29135"/>
                  <a:pt x="18691" y="32424"/>
                </a:cubicBezTo>
              </a:path>
              <a:path stroke="0" w="21600" h="32425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5401"/>
                  <a:pt x="20596" y="29135"/>
                  <a:pt x="18691" y="32424"/>
                </a:cubicBezTo>
                <a:lnTo>
                  <a:pt x="0" y="2160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rc 8"/>
          <p:cNvSpPr/>
          <p:nvPr/>
        </p:nvSpPr>
        <p:spPr>
          <a:xfrm flipH="1" flipV="1">
            <a:off x="1476360" y="2348640"/>
            <a:ext cx="960480" cy="569880"/>
          </a:xfrm>
          <a:custGeom>
            <a:avLst/>
            <a:gdLst>
              <a:gd name="textAreaLeft" fmla="*/ 360 w 960480"/>
              <a:gd name="textAreaRight" fmla="*/ 961200 w 960480"/>
              <a:gd name="textAreaTop" fmla="*/ -360 h 569880"/>
              <a:gd name="textAreaBottom" fmla="*/ 569880 h 569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Oval 9"/>
          <p:cNvSpPr/>
          <p:nvPr/>
        </p:nvSpPr>
        <p:spPr>
          <a:xfrm>
            <a:off x="3708360" y="3284640"/>
            <a:ext cx="216000" cy="57600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rc 10"/>
          <p:cNvSpPr/>
          <p:nvPr/>
        </p:nvSpPr>
        <p:spPr>
          <a:xfrm flipV="1">
            <a:off x="6443640" y="1341360"/>
            <a:ext cx="528840" cy="1008000"/>
          </a:xfrm>
          <a:custGeom>
            <a:avLst/>
            <a:gdLst>
              <a:gd name="textAreaLeft" fmla="*/ 0 w 528840"/>
              <a:gd name="textAreaRight" fmla="*/ 528840 w 528840"/>
              <a:gd name="textAreaTop" fmla="*/ 360 h 1008000"/>
              <a:gd name="textAreaBottom" fmla="*/ 1008720 h 100800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rc 11"/>
          <p:cNvSpPr/>
          <p:nvPr/>
        </p:nvSpPr>
        <p:spPr>
          <a:xfrm flipV="1">
            <a:off x="6588000" y="1557360"/>
            <a:ext cx="793800" cy="1008000"/>
          </a:xfrm>
          <a:custGeom>
            <a:avLst/>
            <a:gdLst>
              <a:gd name="textAreaLeft" fmla="*/ 0 w 793800"/>
              <a:gd name="textAreaRight" fmla="*/ 794160 w 793800"/>
              <a:gd name="textAreaTop" fmla="*/ 360 h 1008000"/>
              <a:gd name="textAreaBottom" fmla="*/ 1008720 h 1008000"/>
            </a:gdLst>
            <a:ahLst/>
            <a:rect l="textAreaLeft" t="textAreaTop" r="textAreaRight" b="textAreaBottom"/>
            <a:pathLst>
              <a:path fill="none" w="30446" h="21600">
                <a:moveTo>
                  <a:pt x="0" y="1951"/>
                </a:moveTo>
                <a:cubicBezTo>
                  <a:pt x="2815" y="665"/>
                  <a:pt x="5875" y="-1"/>
                  <a:pt x="8971" y="0"/>
                </a:cubicBezTo>
                <a:cubicBezTo>
                  <a:pt x="20001" y="0"/>
                  <a:pt x="29260" y="8311"/>
                  <a:pt x="30445" y="19279"/>
                </a:cubicBezTo>
              </a:path>
              <a:path stroke="0" w="30446" h="21600">
                <a:moveTo>
                  <a:pt x="0" y="1951"/>
                </a:moveTo>
                <a:cubicBezTo>
                  <a:pt x="2815" y="665"/>
                  <a:pt x="5875" y="-1"/>
                  <a:pt x="8971" y="0"/>
                </a:cubicBezTo>
                <a:cubicBezTo>
                  <a:pt x="20001" y="0"/>
                  <a:pt x="29260" y="8311"/>
                  <a:pt x="30445" y="19279"/>
                </a:cubicBezTo>
                <a:lnTo>
                  <a:pt x="8971" y="2160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rc 12"/>
          <p:cNvSpPr/>
          <p:nvPr/>
        </p:nvSpPr>
        <p:spPr>
          <a:xfrm flipV="1">
            <a:off x="6877080" y="1844640"/>
            <a:ext cx="1008000" cy="936720"/>
          </a:xfrm>
          <a:custGeom>
            <a:avLst/>
            <a:gdLst>
              <a:gd name="textAreaLeft" fmla="*/ 0 w 1008000"/>
              <a:gd name="textAreaRight" fmla="*/ 1008360 w 1008000"/>
              <a:gd name="textAreaTop" fmla="*/ 360 h 936720"/>
              <a:gd name="textAreaBottom" fmla="*/ 937440 h 936720"/>
            </a:gdLst>
            <a:ahLst/>
            <a:rect l="textAreaLeft" t="textAreaTop" r="textAreaRight" b="textAreaBottom"/>
            <a:pathLst>
              <a:path fill="none" w="21364" h="21600">
                <a:moveTo>
                  <a:pt x="-1" y="0"/>
                </a:moveTo>
                <a:cubicBezTo>
                  <a:pt x="10698" y="0"/>
                  <a:pt x="19785" y="7831"/>
                  <a:pt x="21363" y="18413"/>
                </a:cubicBezTo>
              </a:path>
              <a:path stroke="0" w="21364" h="21600">
                <a:moveTo>
                  <a:pt x="-1" y="0"/>
                </a:moveTo>
                <a:cubicBezTo>
                  <a:pt x="10698" y="0"/>
                  <a:pt x="19785" y="7831"/>
                  <a:pt x="21363" y="18413"/>
                </a:cubicBezTo>
                <a:lnTo>
                  <a:pt x="0" y="2160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13"/>
          <p:cNvSpPr/>
          <p:nvPr/>
        </p:nvSpPr>
        <p:spPr>
          <a:xfrm>
            <a:off x="5219640" y="2276640"/>
            <a:ext cx="1871640" cy="28080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Oval 14"/>
          <p:cNvSpPr/>
          <p:nvPr/>
        </p:nvSpPr>
        <p:spPr>
          <a:xfrm>
            <a:off x="6227640" y="2781360"/>
            <a:ext cx="863640" cy="158436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Oval 15"/>
          <p:cNvSpPr/>
          <p:nvPr/>
        </p:nvSpPr>
        <p:spPr>
          <a:xfrm>
            <a:off x="6588000" y="3284640"/>
            <a:ext cx="216000" cy="57600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-4.44444E-006 L -0.00625 0.05811 L -0.04584 0.10024 L -0.08542 0.08588 L -0.10625 0.0419 L -0.10625 -0.00972 L -0.08959 -0.06088 L -0.05625 -0.07893 L -0.02709 -0.05833 L 1.94444E-006 -4.44444E-006 Z">
                                      <p:cBhvr>
                                        <p:cTn id="57" dur="2000" fill="hold"/>
                                        <p:tgtEl>
                                          <p:spTgt spid="1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99 0.00023 L -0.01042 0.0544 L -0.05069 0.10417 L -0.09028 0.09028 L -0.11042 0.03959 L -0.11042 -0.00833 L -0.09375 -0.05602 L -0.06042 -0.07291 L -0.03125 -0.0537 L -0.00399 0.00023 Z">
                                      <p:cBhvr>
                                        <p:cTn id="59" dur="2000" fill="hold"/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4.81481E-006 L -0.00417 0.05556 L -0.02708 0.08889 L -0.07622 0.08727 L -0.08663 0.06783 L -0.1125 0.01389 L -0.09497 -0.04328 L -0.08125 -0.075 C -0.0717 -0.08148 -0.06163 -0.06921 -0.0533 -0.06828 C -0.04618 -0.06666 -0.04358 -0.06828 -0.03872 -0.0655 C -0.03386 -0.06273 -0.03056 -0.0625 -0.02413 -0.05162 L 1.38889E-006 -4.81481E-006 Z">
                                      <p:cBhvr>
                                        <p:cTn id="61" dur="2000" fill="hold"/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99 0.00023 L -0.00816 0.05116 L -0.03108 0.08171 L -0.07188 0.0875 L -0.08854 0.06806 L -0.11649 0.01273 L -0.10104 -0.04028 L -0.08524 -0.06875 C -0.04601 -0.07546 -0.04636 -0.09074 -0.03524 -0.06366 L -0.00399 0.00023 Z">
                                      <p:cBhvr>
                                        <p:cTn id="63" dur="2000" fill="hold"/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Oval 4"/>
          <p:cNvSpPr/>
          <p:nvPr/>
        </p:nvSpPr>
        <p:spPr>
          <a:xfrm>
            <a:off x="2340000" y="2276640"/>
            <a:ext cx="1871640" cy="28080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5"/>
          <p:cNvSpPr/>
          <p:nvPr/>
        </p:nvSpPr>
        <p:spPr>
          <a:xfrm>
            <a:off x="3348000" y="2781360"/>
            <a:ext cx="863640" cy="158436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rc 6"/>
          <p:cNvSpPr/>
          <p:nvPr/>
        </p:nvSpPr>
        <p:spPr>
          <a:xfrm flipH="1" flipV="1">
            <a:off x="2410560" y="1439280"/>
            <a:ext cx="576360" cy="982440"/>
          </a:xfrm>
          <a:custGeom>
            <a:avLst/>
            <a:gdLst>
              <a:gd name="textAreaLeft" fmla="*/ -360 w 576360"/>
              <a:gd name="textAreaRight" fmla="*/ 576360 w 576360"/>
              <a:gd name="textAreaTop" fmla="*/ -360 h 982440"/>
              <a:gd name="textAreaBottom" fmla="*/ 982440 h 982440"/>
            </a:gdLst>
            <a:ahLst/>
            <a:rect l="textAreaLeft" t="textAreaTop" r="textAreaRight" b="textAreaBottom"/>
            <a:pathLst>
              <a:path fill="none" w="21600" h="27791">
                <a:moveTo>
                  <a:pt x="7230" y="-1"/>
                </a:moveTo>
                <a:cubicBezTo>
                  <a:pt x="15844" y="3060"/>
                  <a:pt x="21600" y="11211"/>
                  <a:pt x="21600" y="20354"/>
                </a:cubicBezTo>
                <a:cubicBezTo>
                  <a:pt x="21600" y="22891"/>
                  <a:pt x="21152" y="25408"/>
                  <a:pt x="20279" y="27791"/>
                </a:cubicBezTo>
              </a:path>
              <a:path stroke="0" w="21600" h="27791">
                <a:moveTo>
                  <a:pt x="7230" y="-1"/>
                </a:moveTo>
                <a:cubicBezTo>
                  <a:pt x="15844" y="3060"/>
                  <a:pt x="21600" y="11211"/>
                  <a:pt x="21600" y="20354"/>
                </a:cubicBezTo>
                <a:cubicBezTo>
                  <a:pt x="21600" y="22891"/>
                  <a:pt x="21152" y="25408"/>
                  <a:pt x="20279" y="27791"/>
                </a:cubicBezTo>
                <a:lnTo>
                  <a:pt x="0" y="20354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rc 7"/>
          <p:cNvSpPr/>
          <p:nvPr/>
        </p:nvSpPr>
        <p:spPr>
          <a:xfrm flipH="1" flipV="1">
            <a:off x="1908000" y="1772640"/>
            <a:ext cx="741600" cy="787320"/>
          </a:xfrm>
          <a:custGeom>
            <a:avLst/>
            <a:gdLst>
              <a:gd name="textAreaLeft" fmla="*/ 360 w 741600"/>
              <a:gd name="textAreaRight" fmla="*/ 742320 w 741600"/>
              <a:gd name="textAreaTop" fmla="*/ -360 h 787320"/>
              <a:gd name="textAreaBottom" fmla="*/ 787320 h 787320"/>
            </a:gdLst>
            <a:ahLst/>
            <a:rect l="textAreaLeft" t="textAreaTop" r="textAreaRight" b="textAreaBottom"/>
            <a:pathLst>
              <a:path fill="none" w="21600" h="32425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5401"/>
                  <a:pt x="20596" y="29135"/>
                  <a:pt x="18691" y="32424"/>
                </a:cubicBezTo>
              </a:path>
              <a:path stroke="0" w="21600" h="32425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5401"/>
                  <a:pt x="20596" y="29135"/>
                  <a:pt x="18691" y="32424"/>
                </a:cubicBezTo>
                <a:lnTo>
                  <a:pt x="0" y="2160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rc 8"/>
          <p:cNvSpPr/>
          <p:nvPr/>
        </p:nvSpPr>
        <p:spPr>
          <a:xfrm flipH="1" flipV="1">
            <a:off x="1476360" y="2348640"/>
            <a:ext cx="960480" cy="569880"/>
          </a:xfrm>
          <a:custGeom>
            <a:avLst/>
            <a:gdLst>
              <a:gd name="textAreaLeft" fmla="*/ 360 w 960480"/>
              <a:gd name="textAreaRight" fmla="*/ 961200 w 960480"/>
              <a:gd name="textAreaTop" fmla="*/ -360 h 569880"/>
              <a:gd name="textAreaBottom" fmla="*/ 569880 h 569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Oval 9"/>
          <p:cNvSpPr/>
          <p:nvPr/>
        </p:nvSpPr>
        <p:spPr>
          <a:xfrm>
            <a:off x="3708360" y="3284640"/>
            <a:ext cx="216000" cy="57600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rc 10"/>
          <p:cNvSpPr/>
          <p:nvPr/>
        </p:nvSpPr>
        <p:spPr>
          <a:xfrm flipV="1">
            <a:off x="6443640" y="1341360"/>
            <a:ext cx="528840" cy="1008000"/>
          </a:xfrm>
          <a:custGeom>
            <a:avLst/>
            <a:gdLst>
              <a:gd name="textAreaLeft" fmla="*/ 0 w 528840"/>
              <a:gd name="textAreaRight" fmla="*/ 528840 w 528840"/>
              <a:gd name="textAreaTop" fmla="*/ 360 h 1008000"/>
              <a:gd name="textAreaBottom" fmla="*/ 1008720 h 100800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rc 11"/>
          <p:cNvSpPr/>
          <p:nvPr/>
        </p:nvSpPr>
        <p:spPr>
          <a:xfrm flipV="1">
            <a:off x="6588000" y="1557360"/>
            <a:ext cx="793800" cy="1008000"/>
          </a:xfrm>
          <a:custGeom>
            <a:avLst/>
            <a:gdLst>
              <a:gd name="textAreaLeft" fmla="*/ 0 w 793800"/>
              <a:gd name="textAreaRight" fmla="*/ 794160 w 793800"/>
              <a:gd name="textAreaTop" fmla="*/ 360 h 1008000"/>
              <a:gd name="textAreaBottom" fmla="*/ 1008720 h 1008000"/>
            </a:gdLst>
            <a:ahLst/>
            <a:rect l="textAreaLeft" t="textAreaTop" r="textAreaRight" b="textAreaBottom"/>
            <a:pathLst>
              <a:path fill="none" w="30446" h="21600">
                <a:moveTo>
                  <a:pt x="0" y="1951"/>
                </a:moveTo>
                <a:cubicBezTo>
                  <a:pt x="2815" y="665"/>
                  <a:pt x="5875" y="-1"/>
                  <a:pt x="8971" y="0"/>
                </a:cubicBezTo>
                <a:cubicBezTo>
                  <a:pt x="20001" y="0"/>
                  <a:pt x="29260" y="8311"/>
                  <a:pt x="30445" y="19279"/>
                </a:cubicBezTo>
              </a:path>
              <a:path stroke="0" w="30446" h="21600">
                <a:moveTo>
                  <a:pt x="0" y="1951"/>
                </a:moveTo>
                <a:cubicBezTo>
                  <a:pt x="2815" y="665"/>
                  <a:pt x="5875" y="-1"/>
                  <a:pt x="8971" y="0"/>
                </a:cubicBezTo>
                <a:cubicBezTo>
                  <a:pt x="20001" y="0"/>
                  <a:pt x="29260" y="8311"/>
                  <a:pt x="30445" y="19279"/>
                </a:cubicBezTo>
                <a:lnTo>
                  <a:pt x="8971" y="2160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rc 12"/>
          <p:cNvSpPr/>
          <p:nvPr/>
        </p:nvSpPr>
        <p:spPr>
          <a:xfrm flipV="1">
            <a:off x="6877080" y="1844640"/>
            <a:ext cx="1008000" cy="936720"/>
          </a:xfrm>
          <a:custGeom>
            <a:avLst/>
            <a:gdLst>
              <a:gd name="textAreaLeft" fmla="*/ 0 w 1008000"/>
              <a:gd name="textAreaRight" fmla="*/ 1008360 w 1008000"/>
              <a:gd name="textAreaTop" fmla="*/ 360 h 936720"/>
              <a:gd name="textAreaBottom" fmla="*/ 937440 h 936720"/>
            </a:gdLst>
            <a:ahLst/>
            <a:rect l="textAreaLeft" t="textAreaTop" r="textAreaRight" b="textAreaBottom"/>
            <a:pathLst>
              <a:path fill="none" w="21364" h="21600">
                <a:moveTo>
                  <a:pt x="-1" y="0"/>
                </a:moveTo>
                <a:cubicBezTo>
                  <a:pt x="10698" y="0"/>
                  <a:pt x="19785" y="7831"/>
                  <a:pt x="21363" y="18413"/>
                </a:cubicBezTo>
              </a:path>
              <a:path stroke="0" w="21364" h="21600">
                <a:moveTo>
                  <a:pt x="-1" y="0"/>
                </a:moveTo>
                <a:cubicBezTo>
                  <a:pt x="10698" y="0"/>
                  <a:pt x="19785" y="7831"/>
                  <a:pt x="21363" y="18413"/>
                </a:cubicBezTo>
                <a:lnTo>
                  <a:pt x="0" y="2160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Oval 13"/>
          <p:cNvSpPr/>
          <p:nvPr/>
        </p:nvSpPr>
        <p:spPr>
          <a:xfrm>
            <a:off x="5219640" y="2276640"/>
            <a:ext cx="1871640" cy="28080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Oval 14"/>
          <p:cNvSpPr/>
          <p:nvPr/>
        </p:nvSpPr>
        <p:spPr>
          <a:xfrm>
            <a:off x="6227640" y="2781360"/>
            <a:ext cx="863640" cy="158436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Oval 15"/>
          <p:cNvSpPr/>
          <p:nvPr/>
        </p:nvSpPr>
        <p:spPr>
          <a:xfrm>
            <a:off x="6588000" y="3284640"/>
            <a:ext cx="216000" cy="57600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-4.44444E-006 L -0.00625 0.05811 L -0.04584 0.10024 L -0.08542 0.08588 L -0.10625 0.0419 L -0.10625 -0.00972 L -0.08959 -0.06088 L -0.05625 -0.07893 L -0.02709 -0.05833 L 1.94444E-006 -4.44444E-006 Z">
                                      <p:cBhvr>
                                        <p:cTn id="69" dur="2000" fill="hold"/>
                                        <p:tgtEl>
                                          <p:spTgt spid="1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99 0.00023 L -0.01042 0.0544 L -0.05069 0.10417 L -0.09028 0.09028 L -0.11042 0.03959 L -0.11042 -0.00833 L -0.09375 -0.05602 L -0.06042 -0.07291 L -0.03125 -0.0537 L -0.00399 0.00023 Z">
                                      <p:cBhvr>
                                        <p:cTn id="71" dur="2000" fill="hold"/>
                                        <p:tgtEl>
                                          <p:spTgt spid="1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4.81481E-006 L -0.00417 0.05556 L -0.02708 0.08889 L -0.07622 0.08727 L -0.08663 0.06783 L -0.1125 0.01389 L -0.09497 -0.04328 L -0.08125 -0.075 C -0.0717 -0.08148 -0.06163 -0.06921 -0.0533 -0.06828 C -0.04618 -0.06666 -0.04358 -0.06828 -0.03872 -0.0655 C -0.03386 -0.06273 -0.03056 -0.0625 -0.02413 -0.05162 L 1.38889E-006 -4.81481E-006 Z">
                                      <p:cBhvr>
                                        <p:cTn id="73" dur="2000" fill="hold"/>
                                        <p:tgtEl>
                                          <p:spTgt spid="1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99 0.00023 L -0.00816 0.05116 L -0.03108 0.08171 L -0.07188 0.0875 L -0.08854 0.06806 L -0.11649 0.01273 L -0.10104 -0.04028 L -0.08524 -0.06875 C -0.04601 -0.07546 -0.04636 -0.09074 -0.03524 -0.06366 L -0.00399 0.00023 Z">
                                      <p:cBhvr>
                                        <p:cTn id="75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Oval 4"/>
          <p:cNvSpPr/>
          <p:nvPr/>
        </p:nvSpPr>
        <p:spPr>
          <a:xfrm>
            <a:off x="2340000" y="2276640"/>
            <a:ext cx="1871640" cy="28080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Oval 5"/>
          <p:cNvSpPr/>
          <p:nvPr/>
        </p:nvSpPr>
        <p:spPr>
          <a:xfrm>
            <a:off x="3348000" y="2781360"/>
            <a:ext cx="863640" cy="158436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rc 6"/>
          <p:cNvSpPr/>
          <p:nvPr/>
        </p:nvSpPr>
        <p:spPr>
          <a:xfrm flipH="1" flipV="1">
            <a:off x="2410560" y="1439280"/>
            <a:ext cx="576360" cy="982440"/>
          </a:xfrm>
          <a:custGeom>
            <a:avLst/>
            <a:gdLst>
              <a:gd name="textAreaLeft" fmla="*/ -360 w 576360"/>
              <a:gd name="textAreaRight" fmla="*/ 576360 w 576360"/>
              <a:gd name="textAreaTop" fmla="*/ -360 h 982440"/>
              <a:gd name="textAreaBottom" fmla="*/ 982440 h 982440"/>
            </a:gdLst>
            <a:ahLst/>
            <a:rect l="textAreaLeft" t="textAreaTop" r="textAreaRight" b="textAreaBottom"/>
            <a:pathLst>
              <a:path fill="none" w="21600" h="27791">
                <a:moveTo>
                  <a:pt x="7230" y="-1"/>
                </a:moveTo>
                <a:cubicBezTo>
                  <a:pt x="15844" y="3060"/>
                  <a:pt x="21600" y="11211"/>
                  <a:pt x="21600" y="20354"/>
                </a:cubicBezTo>
                <a:cubicBezTo>
                  <a:pt x="21600" y="22891"/>
                  <a:pt x="21152" y="25408"/>
                  <a:pt x="20279" y="27791"/>
                </a:cubicBezTo>
              </a:path>
              <a:path stroke="0" w="21600" h="27791">
                <a:moveTo>
                  <a:pt x="7230" y="-1"/>
                </a:moveTo>
                <a:cubicBezTo>
                  <a:pt x="15844" y="3060"/>
                  <a:pt x="21600" y="11211"/>
                  <a:pt x="21600" y="20354"/>
                </a:cubicBezTo>
                <a:cubicBezTo>
                  <a:pt x="21600" y="22891"/>
                  <a:pt x="21152" y="25408"/>
                  <a:pt x="20279" y="27791"/>
                </a:cubicBezTo>
                <a:lnTo>
                  <a:pt x="0" y="20354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rc 7"/>
          <p:cNvSpPr/>
          <p:nvPr/>
        </p:nvSpPr>
        <p:spPr>
          <a:xfrm flipH="1" flipV="1">
            <a:off x="1908000" y="1772640"/>
            <a:ext cx="741600" cy="787320"/>
          </a:xfrm>
          <a:custGeom>
            <a:avLst/>
            <a:gdLst>
              <a:gd name="textAreaLeft" fmla="*/ 360 w 741600"/>
              <a:gd name="textAreaRight" fmla="*/ 742320 w 741600"/>
              <a:gd name="textAreaTop" fmla="*/ -360 h 787320"/>
              <a:gd name="textAreaBottom" fmla="*/ 787320 h 787320"/>
            </a:gdLst>
            <a:ahLst/>
            <a:rect l="textAreaLeft" t="textAreaTop" r="textAreaRight" b="textAreaBottom"/>
            <a:pathLst>
              <a:path fill="none" w="21600" h="32425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5401"/>
                  <a:pt x="20596" y="29135"/>
                  <a:pt x="18691" y="32424"/>
                </a:cubicBezTo>
              </a:path>
              <a:path stroke="0" w="21600" h="32425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5401"/>
                  <a:pt x="20596" y="29135"/>
                  <a:pt x="18691" y="32424"/>
                </a:cubicBezTo>
                <a:lnTo>
                  <a:pt x="0" y="2160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rc 8"/>
          <p:cNvSpPr/>
          <p:nvPr/>
        </p:nvSpPr>
        <p:spPr>
          <a:xfrm flipH="1" flipV="1">
            <a:off x="1476360" y="2348640"/>
            <a:ext cx="960480" cy="569880"/>
          </a:xfrm>
          <a:custGeom>
            <a:avLst/>
            <a:gdLst>
              <a:gd name="textAreaLeft" fmla="*/ 360 w 960480"/>
              <a:gd name="textAreaRight" fmla="*/ 961200 w 960480"/>
              <a:gd name="textAreaTop" fmla="*/ -360 h 569880"/>
              <a:gd name="textAreaBottom" fmla="*/ 569880 h 569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Oval 9"/>
          <p:cNvSpPr/>
          <p:nvPr/>
        </p:nvSpPr>
        <p:spPr>
          <a:xfrm>
            <a:off x="3708360" y="3284640"/>
            <a:ext cx="216000" cy="57600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rc 10"/>
          <p:cNvSpPr/>
          <p:nvPr/>
        </p:nvSpPr>
        <p:spPr>
          <a:xfrm flipV="1">
            <a:off x="6443640" y="1341360"/>
            <a:ext cx="528840" cy="1008000"/>
          </a:xfrm>
          <a:custGeom>
            <a:avLst/>
            <a:gdLst>
              <a:gd name="textAreaLeft" fmla="*/ 0 w 528840"/>
              <a:gd name="textAreaRight" fmla="*/ 528840 w 528840"/>
              <a:gd name="textAreaTop" fmla="*/ 360 h 1008000"/>
              <a:gd name="textAreaBottom" fmla="*/ 1008720 h 100800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rc 11"/>
          <p:cNvSpPr/>
          <p:nvPr/>
        </p:nvSpPr>
        <p:spPr>
          <a:xfrm flipV="1">
            <a:off x="6588000" y="1557360"/>
            <a:ext cx="793800" cy="1008000"/>
          </a:xfrm>
          <a:custGeom>
            <a:avLst/>
            <a:gdLst>
              <a:gd name="textAreaLeft" fmla="*/ 0 w 793800"/>
              <a:gd name="textAreaRight" fmla="*/ 794160 w 793800"/>
              <a:gd name="textAreaTop" fmla="*/ 360 h 1008000"/>
              <a:gd name="textAreaBottom" fmla="*/ 1008720 h 1008000"/>
            </a:gdLst>
            <a:ahLst/>
            <a:rect l="textAreaLeft" t="textAreaTop" r="textAreaRight" b="textAreaBottom"/>
            <a:pathLst>
              <a:path fill="none" w="30446" h="21600">
                <a:moveTo>
                  <a:pt x="0" y="1951"/>
                </a:moveTo>
                <a:cubicBezTo>
                  <a:pt x="2815" y="665"/>
                  <a:pt x="5875" y="-1"/>
                  <a:pt x="8971" y="0"/>
                </a:cubicBezTo>
                <a:cubicBezTo>
                  <a:pt x="20001" y="0"/>
                  <a:pt x="29260" y="8311"/>
                  <a:pt x="30445" y="19279"/>
                </a:cubicBezTo>
              </a:path>
              <a:path stroke="0" w="30446" h="21600">
                <a:moveTo>
                  <a:pt x="0" y="1951"/>
                </a:moveTo>
                <a:cubicBezTo>
                  <a:pt x="2815" y="665"/>
                  <a:pt x="5875" y="-1"/>
                  <a:pt x="8971" y="0"/>
                </a:cubicBezTo>
                <a:cubicBezTo>
                  <a:pt x="20001" y="0"/>
                  <a:pt x="29260" y="8311"/>
                  <a:pt x="30445" y="19279"/>
                </a:cubicBezTo>
                <a:lnTo>
                  <a:pt x="8971" y="2160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rc 12"/>
          <p:cNvSpPr/>
          <p:nvPr/>
        </p:nvSpPr>
        <p:spPr>
          <a:xfrm flipV="1">
            <a:off x="6877080" y="1844640"/>
            <a:ext cx="1008000" cy="936720"/>
          </a:xfrm>
          <a:custGeom>
            <a:avLst/>
            <a:gdLst>
              <a:gd name="textAreaLeft" fmla="*/ 0 w 1008000"/>
              <a:gd name="textAreaRight" fmla="*/ 1008360 w 1008000"/>
              <a:gd name="textAreaTop" fmla="*/ 360 h 936720"/>
              <a:gd name="textAreaBottom" fmla="*/ 937440 h 936720"/>
            </a:gdLst>
            <a:ahLst/>
            <a:rect l="textAreaLeft" t="textAreaTop" r="textAreaRight" b="textAreaBottom"/>
            <a:pathLst>
              <a:path fill="none" w="21364" h="21600">
                <a:moveTo>
                  <a:pt x="-1" y="0"/>
                </a:moveTo>
                <a:cubicBezTo>
                  <a:pt x="10698" y="0"/>
                  <a:pt x="19785" y="7831"/>
                  <a:pt x="21363" y="18413"/>
                </a:cubicBezTo>
              </a:path>
              <a:path stroke="0" w="21364" h="21600">
                <a:moveTo>
                  <a:pt x="-1" y="0"/>
                </a:moveTo>
                <a:cubicBezTo>
                  <a:pt x="10698" y="0"/>
                  <a:pt x="19785" y="7831"/>
                  <a:pt x="21363" y="18413"/>
                </a:cubicBezTo>
                <a:lnTo>
                  <a:pt x="0" y="2160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Oval 13"/>
          <p:cNvSpPr/>
          <p:nvPr/>
        </p:nvSpPr>
        <p:spPr>
          <a:xfrm>
            <a:off x="5219640" y="2276640"/>
            <a:ext cx="1871640" cy="28080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Oval 14"/>
          <p:cNvSpPr/>
          <p:nvPr/>
        </p:nvSpPr>
        <p:spPr>
          <a:xfrm>
            <a:off x="6227640" y="2781360"/>
            <a:ext cx="863640" cy="158436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Oval 15"/>
          <p:cNvSpPr/>
          <p:nvPr/>
        </p:nvSpPr>
        <p:spPr>
          <a:xfrm>
            <a:off x="6588000" y="3284640"/>
            <a:ext cx="216000" cy="57600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-4.44444E-006 L -0.00625 0.05811 L -0.04584 0.10024 L -0.08542 0.08588 L -0.10625 0.0419 L -0.10625 -0.00972 L -0.08959 -0.06088 L -0.05625 -0.07893 L -0.02709 -0.05833 L 1.94444E-006 -4.44444E-006 Z">
                                      <p:cBhvr>
                                        <p:cTn id="81" dur="2000" fill="hold"/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99 0.00023 L -0.01042 0.0544 L -0.05069 0.10417 L -0.09028 0.09028 L -0.11042 0.03959 L -0.11042 -0.00833 L -0.09375 -0.05602 L -0.06042 -0.07291 L -0.03125 -0.0537 L -0.00399 0.00023 Z">
                                      <p:cBhvr>
                                        <p:cTn id="83" dur="2000" fill="hold"/>
                                        <p:tgtEl>
                                          <p:spTgt spid="1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4.81481E-006 L -0.00417 0.05556 L -0.02708 0.08889 L -0.07622 0.08727 L -0.08663 0.06783 L -0.1125 0.01389 L -0.09497 -0.04328 L -0.08125 -0.075 C -0.0717 -0.08148 -0.06163 -0.06921 -0.0533 -0.06828 C -0.04618 -0.06666 -0.04358 -0.06828 -0.03872 -0.0655 C -0.03386 -0.06273 -0.03056 -0.0625 -0.02413 -0.05162 L 1.38889E-006 -4.81481E-006 Z">
                                      <p:cBhvr>
                                        <p:cTn id="85" dur="2000" fill="hold"/>
                                        <p:tgtEl>
                                          <p:spTgt spid="1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99 0.00023 L -0.00816 0.05116 L -0.03108 0.08171 L -0.07188 0.0875 L -0.08854 0.06806 L -0.11649 0.01273 L -0.10104 -0.04028 L -0.08524 -0.06875 C -0.04601 -0.07546 -0.04636 -0.09074 -0.03524 -0.06366 L -0.00399 0.00023 Z">
                                      <p:cBhvr>
                                        <p:cTn id="87" dur="2000" fill="hold"/>
                                        <p:tgtEl>
                                          <p:spTgt spid="1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Oval 4"/>
          <p:cNvSpPr/>
          <p:nvPr/>
        </p:nvSpPr>
        <p:spPr>
          <a:xfrm>
            <a:off x="2340000" y="2276640"/>
            <a:ext cx="1871640" cy="28080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Oval 5"/>
          <p:cNvSpPr/>
          <p:nvPr/>
        </p:nvSpPr>
        <p:spPr>
          <a:xfrm>
            <a:off x="3348000" y="2781360"/>
            <a:ext cx="863640" cy="158436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rc 6"/>
          <p:cNvSpPr/>
          <p:nvPr/>
        </p:nvSpPr>
        <p:spPr>
          <a:xfrm flipH="1" flipV="1">
            <a:off x="2410560" y="1439280"/>
            <a:ext cx="576360" cy="982440"/>
          </a:xfrm>
          <a:custGeom>
            <a:avLst/>
            <a:gdLst>
              <a:gd name="textAreaLeft" fmla="*/ -360 w 576360"/>
              <a:gd name="textAreaRight" fmla="*/ 576360 w 576360"/>
              <a:gd name="textAreaTop" fmla="*/ -360 h 982440"/>
              <a:gd name="textAreaBottom" fmla="*/ 982440 h 982440"/>
            </a:gdLst>
            <a:ahLst/>
            <a:rect l="textAreaLeft" t="textAreaTop" r="textAreaRight" b="textAreaBottom"/>
            <a:pathLst>
              <a:path fill="none" w="21600" h="27791">
                <a:moveTo>
                  <a:pt x="7230" y="-1"/>
                </a:moveTo>
                <a:cubicBezTo>
                  <a:pt x="15844" y="3060"/>
                  <a:pt x="21600" y="11211"/>
                  <a:pt x="21600" y="20354"/>
                </a:cubicBezTo>
                <a:cubicBezTo>
                  <a:pt x="21600" y="22891"/>
                  <a:pt x="21152" y="25408"/>
                  <a:pt x="20279" y="27791"/>
                </a:cubicBezTo>
              </a:path>
              <a:path stroke="0" w="21600" h="27791">
                <a:moveTo>
                  <a:pt x="7230" y="-1"/>
                </a:moveTo>
                <a:cubicBezTo>
                  <a:pt x="15844" y="3060"/>
                  <a:pt x="21600" y="11211"/>
                  <a:pt x="21600" y="20354"/>
                </a:cubicBezTo>
                <a:cubicBezTo>
                  <a:pt x="21600" y="22891"/>
                  <a:pt x="21152" y="25408"/>
                  <a:pt x="20279" y="27791"/>
                </a:cubicBezTo>
                <a:lnTo>
                  <a:pt x="0" y="20354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rc 7"/>
          <p:cNvSpPr/>
          <p:nvPr/>
        </p:nvSpPr>
        <p:spPr>
          <a:xfrm flipH="1" flipV="1">
            <a:off x="1908000" y="1772640"/>
            <a:ext cx="741600" cy="787320"/>
          </a:xfrm>
          <a:custGeom>
            <a:avLst/>
            <a:gdLst>
              <a:gd name="textAreaLeft" fmla="*/ 360 w 741600"/>
              <a:gd name="textAreaRight" fmla="*/ 742320 w 741600"/>
              <a:gd name="textAreaTop" fmla="*/ -360 h 787320"/>
              <a:gd name="textAreaBottom" fmla="*/ 787320 h 787320"/>
            </a:gdLst>
            <a:ahLst/>
            <a:rect l="textAreaLeft" t="textAreaTop" r="textAreaRight" b="textAreaBottom"/>
            <a:pathLst>
              <a:path fill="none" w="21600" h="32425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5401"/>
                  <a:pt x="20596" y="29135"/>
                  <a:pt x="18691" y="32424"/>
                </a:cubicBezTo>
              </a:path>
              <a:path stroke="0" w="21600" h="32425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5401"/>
                  <a:pt x="20596" y="29135"/>
                  <a:pt x="18691" y="32424"/>
                </a:cubicBezTo>
                <a:lnTo>
                  <a:pt x="0" y="2160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rc 8"/>
          <p:cNvSpPr/>
          <p:nvPr/>
        </p:nvSpPr>
        <p:spPr>
          <a:xfrm flipH="1" flipV="1">
            <a:off x="1476360" y="2348640"/>
            <a:ext cx="960480" cy="569880"/>
          </a:xfrm>
          <a:custGeom>
            <a:avLst/>
            <a:gdLst>
              <a:gd name="textAreaLeft" fmla="*/ 360 w 960480"/>
              <a:gd name="textAreaRight" fmla="*/ 961200 w 960480"/>
              <a:gd name="textAreaTop" fmla="*/ -360 h 569880"/>
              <a:gd name="textAreaBottom" fmla="*/ 569880 h 569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Oval 9"/>
          <p:cNvSpPr/>
          <p:nvPr/>
        </p:nvSpPr>
        <p:spPr>
          <a:xfrm>
            <a:off x="3708360" y="3284640"/>
            <a:ext cx="216000" cy="57600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rc 10"/>
          <p:cNvSpPr/>
          <p:nvPr/>
        </p:nvSpPr>
        <p:spPr>
          <a:xfrm flipV="1">
            <a:off x="6443640" y="1341360"/>
            <a:ext cx="528840" cy="1008000"/>
          </a:xfrm>
          <a:custGeom>
            <a:avLst/>
            <a:gdLst>
              <a:gd name="textAreaLeft" fmla="*/ 0 w 528840"/>
              <a:gd name="textAreaRight" fmla="*/ 528840 w 528840"/>
              <a:gd name="textAreaTop" fmla="*/ 360 h 1008000"/>
              <a:gd name="textAreaBottom" fmla="*/ 1008720 h 100800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rc 11"/>
          <p:cNvSpPr/>
          <p:nvPr/>
        </p:nvSpPr>
        <p:spPr>
          <a:xfrm flipV="1">
            <a:off x="6588000" y="1557360"/>
            <a:ext cx="793800" cy="1008000"/>
          </a:xfrm>
          <a:custGeom>
            <a:avLst/>
            <a:gdLst>
              <a:gd name="textAreaLeft" fmla="*/ 0 w 793800"/>
              <a:gd name="textAreaRight" fmla="*/ 794160 w 793800"/>
              <a:gd name="textAreaTop" fmla="*/ 360 h 1008000"/>
              <a:gd name="textAreaBottom" fmla="*/ 1008720 h 1008000"/>
            </a:gdLst>
            <a:ahLst/>
            <a:rect l="textAreaLeft" t="textAreaTop" r="textAreaRight" b="textAreaBottom"/>
            <a:pathLst>
              <a:path fill="none" w="30446" h="21600">
                <a:moveTo>
                  <a:pt x="0" y="1951"/>
                </a:moveTo>
                <a:cubicBezTo>
                  <a:pt x="2815" y="665"/>
                  <a:pt x="5875" y="-1"/>
                  <a:pt x="8971" y="0"/>
                </a:cubicBezTo>
                <a:cubicBezTo>
                  <a:pt x="20001" y="0"/>
                  <a:pt x="29260" y="8311"/>
                  <a:pt x="30445" y="19279"/>
                </a:cubicBezTo>
              </a:path>
              <a:path stroke="0" w="30446" h="21600">
                <a:moveTo>
                  <a:pt x="0" y="1951"/>
                </a:moveTo>
                <a:cubicBezTo>
                  <a:pt x="2815" y="665"/>
                  <a:pt x="5875" y="-1"/>
                  <a:pt x="8971" y="0"/>
                </a:cubicBezTo>
                <a:cubicBezTo>
                  <a:pt x="20001" y="0"/>
                  <a:pt x="29260" y="8311"/>
                  <a:pt x="30445" y="19279"/>
                </a:cubicBezTo>
                <a:lnTo>
                  <a:pt x="8971" y="2160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rc 12"/>
          <p:cNvSpPr/>
          <p:nvPr/>
        </p:nvSpPr>
        <p:spPr>
          <a:xfrm flipV="1">
            <a:off x="6877080" y="1844640"/>
            <a:ext cx="1008000" cy="936720"/>
          </a:xfrm>
          <a:custGeom>
            <a:avLst/>
            <a:gdLst>
              <a:gd name="textAreaLeft" fmla="*/ 0 w 1008000"/>
              <a:gd name="textAreaRight" fmla="*/ 1008360 w 1008000"/>
              <a:gd name="textAreaTop" fmla="*/ 360 h 936720"/>
              <a:gd name="textAreaBottom" fmla="*/ 937440 h 936720"/>
            </a:gdLst>
            <a:ahLst/>
            <a:rect l="textAreaLeft" t="textAreaTop" r="textAreaRight" b="textAreaBottom"/>
            <a:pathLst>
              <a:path fill="none" w="21364" h="21600">
                <a:moveTo>
                  <a:pt x="-1" y="0"/>
                </a:moveTo>
                <a:cubicBezTo>
                  <a:pt x="10698" y="0"/>
                  <a:pt x="19785" y="7831"/>
                  <a:pt x="21363" y="18413"/>
                </a:cubicBezTo>
              </a:path>
              <a:path stroke="0" w="21364" h="21600">
                <a:moveTo>
                  <a:pt x="-1" y="0"/>
                </a:moveTo>
                <a:cubicBezTo>
                  <a:pt x="10698" y="0"/>
                  <a:pt x="19785" y="7831"/>
                  <a:pt x="21363" y="18413"/>
                </a:cubicBezTo>
                <a:lnTo>
                  <a:pt x="0" y="2160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Oval 13"/>
          <p:cNvSpPr/>
          <p:nvPr/>
        </p:nvSpPr>
        <p:spPr>
          <a:xfrm>
            <a:off x="5219640" y="2276640"/>
            <a:ext cx="1871640" cy="28080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val 14"/>
          <p:cNvSpPr/>
          <p:nvPr/>
        </p:nvSpPr>
        <p:spPr>
          <a:xfrm>
            <a:off x="6227640" y="2781360"/>
            <a:ext cx="863640" cy="158436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Oval 15"/>
          <p:cNvSpPr/>
          <p:nvPr/>
        </p:nvSpPr>
        <p:spPr>
          <a:xfrm>
            <a:off x="6588000" y="3284640"/>
            <a:ext cx="216000" cy="57600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-4.44444E-006 L -0.00625 0.05811 L -0.04584 0.10024 L -0.08542 0.08588 L -0.10625 0.0419 L -0.10625 -0.00972 L -0.08959 -0.06088 L -0.05625 -0.07893 L -0.02709 -0.05833 L 1.94444E-006 -4.44444E-006 Z">
                                      <p:cBhvr>
                                        <p:cTn id="93" dur="2000" fill="hold"/>
                                        <p:tgtEl>
                                          <p:spTgt spid="1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99 0.00023 L -0.01042 0.0544 L -0.05069 0.10417 L -0.09028 0.09028 L -0.11042 0.03959 L -0.11042 -0.00833 L -0.09375 -0.05602 L -0.06042 -0.07291 L -0.03125 -0.0537 L -0.00399 0.00023 Z">
                                      <p:cBhvr>
                                        <p:cTn id="95" dur="2000" fill="hold"/>
                                        <p:tgtEl>
                                          <p:spTgt spid="1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4.81481E-006 L -0.00417 0.05556 L -0.02708 0.08889 L -0.07622 0.08727 L -0.08663 0.06783 L -0.1125 0.01389 L -0.09497 -0.04328 L -0.08125 -0.075 C -0.0717 -0.08148 -0.06163 -0.06921 -0.0533 -0.06828 C -0.04618 -0.06666 -0.04358 -0.06828 -0.03872 -0.0655 C -0.03386 -0.06273 -0.03056 -0.0625 -0.02413 -0.05162 L 1.38889E-006 -4.81481E-006 Z">
                                      <p:cBhvr>
                                        <p:cTn id="97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99 0.00023 L -0.00816 0.05116 L -0.03108 0.08171 L -0.07188 0.0875 L -0.08854 0.06806 L -0.11649 0.01273 L -0.10104 -0.04028 L -0.08524 -0.06875 C -0.04601 -0.07546 -0.04636 -0.09074 -0.03524 -0.06366 L -0.00399 0.00023 Z">
                                      <p:cBhvr>
                                        <p:cTn id="99" dur="2000" fill="hold"/>
                                        <p:tgtEl>
                                          <p:spTgt spid="1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Oval 4"/>
          <p:cNvSpPr/>
          <p:nvPr/>
        </p:nvSpPr>
        <p:spPr>
          <a:xfrm>
            <a:off x="2340000" y="2276640"/>
            <a:ext cx="1871640" cy="28080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Oval 5"/>
          <p:cNvSpPr/>
          <p:nvPr/>
        </p:nvSpPr>
        <p:spPr>
          <a:xfrm>
            <a:off x="3348000" y="2781360"/>
            <a:ext cx="863640" cy="158436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rc 6"/>
          <p:cNvSpPr/>
          <p:nvPr/>
        </p:nvSpPr>
        <p:spPr>
          <a:xfrm flipH="1" flipV="1">
            <a:off x="2410560" y="1439280"/>
            <a:ext cx="576360" cy="982440"/>
          </a:xfrm>
          <a:custGeom>
            <a:avLst/>
            <a:gdLst>
              <a:gd name="textAreaLeft" fmla="*/ -360 w 576360"/>
              <a:gd name="textAreaRight" fmla="*/ 576360 w 576360"/>
              <a:gd name="textAreaTop" fmla="*/ -360 h 982440"/>
              <a:gd name="textAreaBottom" fmla="*/ 982440 h 982440"/>
            </a:gdLst>
            <a:ahLst/>
            <a:rect l="textAreaLeft" t="textAreaTop" r="textAreaRight" b="textAreaBottom"/>
            <a:pathLst>
              <a:path fill="none" w="21600" h="27791">
                <a:moveTo>
                  <a:pt x="7230" y="-1"/>
                </a:moveTo>
                <a:cubicBezTo>
                  <a:pt x="15844" y="3060"/>
                  <a:pt x="21600" y="11211"/>
                  <a:pt x="21600" y="20354"/>
                </a:cubicBezTo>
                <a:cubicBezTo>
                  <a:pt x="21600" y="22891"/>
                  <a:pt x="21152" y="25408"/>
                  <a:pt x="20279" y="27791"/>
                </a:cubicBezTo>
              </a:path>
              <a:path stroke="0" w="21600" h="27791">
                <a:moveTo>
                  <a:pt x="7230" y="-1"/>
                </a:moveTo>
                <a:cubicBezTo>
                  <a:pt x="15844" y="3060"/>
                  <a:pt x="21600" y="11211"/>
                  <a:pt x="21600" y="20354"/>
                </a:cubicBezTo>
                <a:cubicBezTo>
                  <a:pt x="21600" y="22891"/>
                  <a:pt x="21152" y="25408"/>
                  <a:pt x="20279" y="27791"/>
                </a:cubicBezTo>
                <a:lnTo>
                  <a:pt x="0" y="20354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rc 7"/>
          <p:cNvSpPr/>
          <p:nvPr/>
        </p:nvSpPr>
        <p:spPr>
          <a:xfrm flipH="1" flipV="1">
            <a:off x="1908000" y="1772640"/>
            <a:ext cx="741600" cy="787320"/>
          </a:xfrm>
          <a:custGeom>
            <a:avLst/>
            <a:gdLst>
              <a:gd name="textAreaLeft" fmla="*/ 360 w 741600"/>
              <a:gd name="textAreaRight" fmla="*/ 742320 w 741600"/>
              <a:gd name="textAreaTop" fmla="*/ -360 h 787320"/>
              <a:gd name="textAreaBottom" fmla="*/ 787320 h 787320"/>
            </a:gdLst>
            <a:ahLst/>
            <a:rect l="textAreaLeft" t="textAreaTop" r="textAreaRight" b="textAreaBottom"/>
            <a:pathLst>
              <a:path fill="none" w="21600" h="32425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5401"/>
                  <a:pt x="20596" y="29135"/>
                  <a:pt x="18691" y="32424"/>
                </a:cubicBezTo>
              </a:path>
              <a:path stroke="0" w="21600" h="32425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5401"/>
                  <a:pt x="20596" y="29135"/>
                  <a:pt x="18691" y="32424"/>
                </a:cubicBezTo>
                <a:lnTo>
                  <a:pt x="0" y="2160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Arc 8"/>
          <p:cNvSpPr/>
          <p:nvPr/>
        </p:nvSpPr>
        <p:spPr>
          <a:xfrm flipH="1" flipV="1">
            <a:off x="1476360" y="2348640"/>
            <a:ext cx="960480" cy="569880"/>
          </a:xfrm>
          <a:custGeom>
            <a:avLst/>
            <a:gdLst>
              <a:gd name="textAreaLeft" fmla="*/ 360 w 960480"/>
              <a:gd name="textAreaRight" fmla="*/ 961200 w 960480"/>
              <a:gd name="textAreaTop" fmla="*/ -360 h 569880"/>
              <a:gd name="textAreaBottom" fmla="*/ 569880 h 569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9"/>
          <p:cNvSpPr/>
          <p:nvPr/>
        </p:nvSpPr>
        <p:spPr>
          <a:xfrm>
            <a:off x="3708360" y="3284640"/>
            <a:ext cx="216000" cy="57600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rc 10"/>
          <p:cNvSpPr/>
          <p:nvPr/>
        </p:nvSpPr>
        <p:spPr>
          <a:xfrm flipV="1">
            <a:off x="6443640" y="1341360"/>
            <a:ext cx="528840" cy="1008000"/>
          </a:xfrm>
          <a:custGeom>
            <a:avLst/>
            <a:gdLst>
              <a:gd name="textAreaLeft" fmla="*/ 0 w 528840"/>
              <a:gd name="textAreaRight" fmla="*/ 528840 w 528840"/>
              <a:gd name="textAreaTop" fmla="*/ 360 h 1008000"/>
              <a:gd name="textAreaBottom" fmla="*/ 1008720 h 100800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rc 11"/>
          <p:cNvSpPr/>
          <p:nvPr/>
        </p:nvSpPr>
        <p:spPr>
          <a:xfrm flipV="1">
            <a:off x="6588000" y="1557360"/>
            <a:ext cx="793800" cy="1008000"/>
          </a:xfrm>
          <a:custGeom>
            <a:avLst/>
            <a:gdLst>
              <a:gd name="textAreaLeft" fmla="*/ 0 w 793800"/>
              <a:gd name="textAreaRight" fmla="*/ 794160 w 793800"/>
              <a:gd name="textAreaTop" fmla="*/ 360 h 1008000"/>
              <a:gd name="textAreaBottom" fmla="*/ 1008720 h 1008000"/>
            </a:gdLst>
            <a:ahLst/>
            <a:rect l="textAreaLeft" t="textAreaTop" r="textAreaRight" b="textAreaBottom"/>
            <a:pathLst>
              <a:path fill="none" w="30446" h="21600">
                <a:moveTo>
                  <a:pt x="0" y="1951"/>
                </a:moveTo>
                <a:cubicBezTo>
                  <a:pt x="2815" y="665"/>
                  <a:pt x="5875" y="-1"/>
                  <a:pt x="8971" y="0"/>
                </a:cubicBezTo>
                <a:cubicBezTo>
                  <a:pt x="20001" y="0"/>
                  <a:pt x="29260" y="8311"/>
                  <a:pt x="30445" y="19279"/>
                </a:cubicBezTo>
              </a:path>
              <a:path stroke="0" w="30446" h="21600">
                <a:moveTo>
                  <a:pt x="0" y="1951"/>
                </a:moveTo>
                <a:cubicBezTo>
                  <a:pt x="2815" y="665"/>
                  <a:pt x="5875" y="-1"/>
                  <a:pt x="8971" y="0"/>
                </a:cubicBezTo>
                <a:cubicBezTo>
                  <a:pt x="20001" y="0"/>
                  <a:pt x="29260" y="8311"/>
                  <a:pt x="30445" y="19279"/>
                </a:cubicBezTo>
                <a:lnTo>
                  <a:pt x="8971" y="2160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rc 12"/>
          <p:cNvSpPr/>
          <p:nvPr/>
        </p:nvSpPr>
        <p:spPr>
          <a:xfrm flipV="1">
            <a:off x="6877080" y="1844640"/>
            <a:ext cx="1008000" cy="936720"/>
          </a:xfrm>
          <a:custGeom>
            <a:avLst/>
            <a:gdLst>
              <a:gd name="textAreaLeft" fmla="*/ 0 w 1008000"/>
              <a:gd name="textAreaRight" fmla="*/ 1008360 w 1008000"/>
              <a:gd name="textAreaTop" fmla="*/ 360 h 936720"/>
              <a:gd name="textAreaBottom" fmla="*/ 937440 h 936720"/>
            </a:gdLst>
            <a:ahLst/>
            <a:rect l="textAreaLeft" t="textAreaTop" r="textAreaRight" b="textAreaBottom"/>
            <a:pathLst>
              <a:path fill="none" w="21364" h="21600">
                <a:moveTo>
                  <a:pt x="-1" y="0"/>
                </a:moveTo>
                <a:cubicBezTo>
                  <a:pt x="10698" y="0"/>
                  <a:pt x="19785" y="7831"/>
                  <a:pt x="21363" y="18413"/>
                </a:cubicBezTo>
              </a:path>
              <a:path stroke="0" w="21364" h="21600">
                <a:moveTo>
                  <a:pt x="-1" y="0"/>
                </a:moveTo>
                <a:cubicBezTo>
                  <a:pt x="10698" y="0"/>
                  <a:pt x="19785" y="7831"/>
                  <a:pt x="21363" y="18413"/>
                </a:cubicBezTo>
                <a:lnTo>
                  <a:pt x="0" y="2160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13"/>
          <p:cNvSpPr/>
          <p:nvPr/>
        </p:nvSpPr>
        <p:spPr>
          <a:xfrm>
            <a:off x="5219640" y="2276640"/>
            <a:ext cx="1871640" cy="28080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Oval 14"/>
          <p:cNvSpPr/>
          <p:nvPr/>
        </p:nvSpPr>
        <p:spPr>
          <a:xfrm>
            <a:off x="6227640" y="2781360"/>
            <a:ext cx="863640" cy="158436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Oval 15"/>
          <p:cNvSpPr/>
          <p:nvPr/>
        </p:nvSpPr>
        <p:spPr>
          <a:xfrm>
            <a:off x="6588000" y="3284640"/>
            <a:ext cx="216000" cy="57600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-4.44444E-006 L -0.00625 0.05811 L -0.04584 0.10024 L -0.08542 0.08588 L -0.10625 0.0419 L -0.10625 -0.00972 L -0.08959 -0.06088 L -0.05625 -0.07893 L -0.02709 -0.05833 L 1.94444E-006 -4.44444E-006 Z">
                                      <p:cBhvr>
                                        <p:cTn id="105" dur="2000" fill="hold"/>
                                        <p:tgtEl>
                                          <p:spTgt spid="1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99 0.00023 L -0.01042 0.0544 L -0.05069 0.10417 L -0.09028 0.09028 L -0.11042 0.03959 L -0.11042 -0.00833 L -0.09375 -0.05602 L -0.06042 -0.07291 L -0.03125 -0.0537 L -0.00399 0.00023 Z">
                                      <p:cBhvr>
                                        <p:cTn id="107" dur="2000" fill="hold"/>
                                        <p:tgtEl>
                                          <p:spTgt spid="1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4.81481E-006 L -0.00417 0.05556 L -0.02708 0.08889 L -0.07622 0.08727 L -0.08663 0.06783 L -0.1125 0.01389 L -0.09497 -0.04328 L -0.08125 -0.075 C -0.0717 -0.08148 -0.06163 -0.06921 -0.0533 -0.06828 C -0.04618 -0.06666 -0.04358 -0.06828 -0.03872 -0.0655 C -0.03386 -0.06273 -0.03056 -0.0625 -0.02413 -0.05162 L 1.38889E-006 -4.81481E-006 Z">
                                      <p:cBhvr>
                                        <p:cTn id="109" dur="2000" fill="hold"/>
                                        <p:tgtEl>
                                          <p:spTgt spid="1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99 0.00023 L -0.00816 0.05116 L -0.03108 0.08171 L -0.07188 0.0875 L -0.08854 0.06806 L -0.11649 0.01273 L -0.10104 -0.04028 L -0.08524 -0.06875 C -0.04601 -0.07546 -0.04636 -0.09074 -0.03524 -0.06366 L -0.00399 0.00023 Z">
                                      <p:cBhvr>
                                        <p:cTn id="111" dur="2000" fill="hold"/>
                                        <p:tgtEl>
                                          <p:spTgt spid="1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4T11:08:35Z</dcterms:created>
  <dc:creator>Математика</dc:creator>
  <dc:description/>
  <dc:language>en-US</dc:language>
  <cp:lastModifiedBy>школа</cp:lastModifiedBy>
  <dcterms:modified xsi:type="dcterms:W3CDTF">2020-12-14T08:28:07Z</dcterms:modified>
  <cp:revision>4</cp:revision>
  <dc:subject/>
  <dc:title>Слайд 1</dc:title>
</cp:coreProperties>
</file>